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68C3-30F3-4DE3-B508-54DAD98148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79360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4FEEB0-EC10-48B6-B64C-D55AB13A8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Img"/>
          </p:nvPr>
        </p:nvSpPr>
        <p:spPr>
          <a:xfrm>
            <a:off x="1149480" y="693360"/>
            <a:ext cx="4559040" cy="341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1269-F4F2-45D4-BD97-35BA4A5BDC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40D2-E871-485E-8C46-2A580FA190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3F86-3EEB-4F2E-B57C-75836B9ADA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515D-3919-43D8-A170-19EE7F239A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1102-414E-4527-8D23-4073BB72AB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6FC6-B777-4777-AC63-88F098D6F7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DF2C-575B-48B5-B008-5F127562C6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F97C-23B8-43B3-9C3C-AB0576B277D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0697-A341-4A7E-A103-397F7BDB03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6946-0762-4138-A1C9-E5E344F8FA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96DC-3170-4267-ADC0-5CD89787A2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3BBF-DE9E-481F-B821-089F2453A0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4D6E-8422-4717-B2D8-BCD5111648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6FF6-C1AE-4DDE-8262-D110209852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DDFA-EDB0-4B9E-9C60-E991767FD6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7CEA-0526-49BA-95E2-1277ACFAA3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6216-66DB-4A1F-903C-CD17F265EB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6027-B57D-4BD7-8B15-D8C2D48D4E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80F8-2BB6-48E3-B07B-E468B7BC00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A450-2688-436F-B41F-4A4E43DD3A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78DB-5361-42CF-ADCD-392829260D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8C9C-40CD-4F92-8BD8-4DA060755F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1065-7EF2-464E-AE47-E7D2B0DF9E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D657-AF4A-4564-AA75-7BB8626EE6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5771-3914-4AE0-8BC4-5ECBABC479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581A-1189-4E9E-9940-6CDE8047FE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D591-3D89-4296-863A-7C92CA18FF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EF31-3BE1-4569-9321-40C83F58D6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E798-4175-4F2A-BADB-84829AC31F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4C53-9486-4626-8C65-2AB8D4F5E7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DF6D-67F7-46FD-9709-D84F33E1EB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BE6D-AE24-46E2-B5C4-69304B9D32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0070-2F26-4319-81D6-A694F3B8ED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66FC-DCDB-4D1D-B1B3-D464882A84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77B4-4F78-4A1D-9850-682F9159EE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33AB-8D67-48B6-83C5-9AB6DBF067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A365-113C-4B97-AF73-683517EC8F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C150-1719-49CF-BBA3-62608403CA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E00F-90FC-450A-9D94-03D5539B2D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BE17-31BD-4A16-9C69-C35709BE1E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4610-134F-4FDF-A658-92F4205E770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EB07-3CE4-47A2-AD15-CA1443D59D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1450-E723-4EBC-A3A6-5C57A722B3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0002-4164-4B07-860B-6DFD6D72D1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EA06-88C8-4DF3-8D3C-CC18AFA140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1F7E-E51A-4C90-893C-C460B35048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1000-7F89-4345-A617-F573AED9F5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9F57-EF60-4A49-AA17-71F4F98A17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3A18-093C-498C-80FE-90D7147952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204B-8B3B-40F6-8C9D-9B877A989F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68FF-6FA6-4913-A723-D4151270B5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24EC-57D3-42F0-8548-3B9917D0A8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9987-549C-4D9A-9FC4-9E7D55AC67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8DC2-5754-4A5D-AE95-6E3851F3E5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E76C-B6C9-4F17-9CFC-8CDD997DC2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2E0-26CD-4EA7-BF1C-16259321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663-A687-4819-AC10-29084C12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284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2F9-AEA7-49D9-AC78-B70B34CC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85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39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85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39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142-C810-4261-B546-A4139630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639-32CB-44E9-85A2-B587F151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6F2-F7E0-478F-B027-6DD60AAF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EA6-F60B-4701-A3DE-6CAE4C2C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0AE-4A79-45F1-8ECF-89C9E315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680760"/>
            <a:ext cx="71629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42F-C0B0-4416-8422-CC71F6A1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1DE-DD46-465F-AEDC-91E1D130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284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510-9E4C-4D27-923B-BC7DA615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E80-9722-4F5E-A342-83BF15A3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f"/>
            </a:gs>
            <a:gs pos="100000">
              <a:srgbClr val="0027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A90C-B0D0-40F7-AE23-9650EF9E4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158760" y="139680"/>
            <a:ext cx="8826480" cy="6578640"/>
            <a:chOff x="158760" y="139680"/>
            <a:chExt cx="8826480" cy="6578640"/>
          </a:xfrm>
        </p:grpSpPr>
        <p:sp>
          <p:nvSpPr>
            <p:cNvPr id="4" name="Rectangle 5"/>
            <p:cNvSpPr/>
            <p:nvPr/>
          </p:nvSpPr>
          <p:spPr>
            <a:xfrm>
              <a:off x="158760" y="139680"/>
              <a:ext cx="8826480" cy="6578640"/>
            </a:xfrm>
            <a:prstGeom prst="rect">
              <a:avLst/>
            </a:prstGeom>
            <a:gradFill rotWithShape="0">
              <a:gsLst>
                <a:gs pos="0">
                  <a:srgbClr val="3352b2"/>
                </a:gs>
                <a:gs pos="50000">
                  <a:srgbClr val="00279f"/>
                </a:gs>
                <a:gs pos="100000">
                  <a:srgbClr val="3352b2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336600" y="291960"/>
              <a:ext cx="8470800" cy="62740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c67bc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379440" y="347760"/>
              <a:ext cx="8385120" cy="6164280"/>
            </a:xfrm>
            <a:prstGeom prst="rect">
              <a:avLst/>
            </a:prstGeom>
            <a:gradFill rotWithShape="0">
              <a:gsLst>
                <a:gs pos="0">
                  <a:srgbClr val="4c67bc"/>
                </a:gs>
                <a:gs pos="50000">
                  <a:srgbClr val="00279f"/>
                </a:gs>
                <a:gs pos="100000">
                  <a:srgbClr val="4c67bc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14440" y="520560"/>
              <a:ext cx="8115120" cy="5816880"/>
            </a:xfrm>
            <a:prstGeom prst="rect">
              <a:avLst/>
            </a:prstGeom>
            <a:gradFill rotWithShape="0">
              <a:gsLst>
                <a:gs pos="0">
                  <a:srgbClr val="000c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0956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st Does the Reaction G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ings that Affect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can only collide at the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particles bigger surface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particles faster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is molecules or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olving speeds up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two solids to react with each other is s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ings that Affect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7880" y="1371600"/>
            <a:ext cx="8266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atalyst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bstances that speed up a reaction without being used up.(enzym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s up reaction by giving the reaction a new pa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 path has a lower activation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molecules have this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action goes fa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hibitor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substance that blocks a cataly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7560" y="509760"/>
            <a:ext cx="7607160" cy="5397480"/>
          </a:xfrm>
          <a:prstGeom prst="rect">
            <a:avLst/>
          </a:prstGeom>
          <a:solidFill>
            <a:srgbClr val="b3b9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 rot="16200000">
            <a:off x="75600" y="388620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838080" y="182844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886120" y="5853240"/>
            <a:ext cx="449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coordina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1373040" y="1692360"/>
            <a:ext cx="7164360" cy="3519360"/>
          </a:xfrm>
          <a:prstGeom prst="pie">
            <a:avLst/>
          </a:prstGeom>
          <a:noFill/>
          <a:ln cap="rnd"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2" name="Group 9"/>
          <p:cNvGrpSpPr/>
          <p:nvPr/>
        </p:nvGrpSpPr>
        <p:grpSpPr>
          <a:xfrm>
            <a:off x="4791240" y="808200"/>
            <a:ext cx="465120" cy="799920"/>
            <a:chOff x="4791240" y="808200"/>
            <a:chExt cx="465120" cy="799920"/>
          </a:xfrm>
        </p:grpSpPr>
        <p:sp>
          <p:nvSpPr>
            <p:cNvPr id="223" name="Oval 7"/>
            <p:cNvSpPr/>
            <p:nvPr/>
          </p:nvSpPr>
          <p:spPr>
            <a:xfrm>
              <a:off x="4792680" y="808200"/>
              <a:ext cx="463680" cy="46332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4" name="Oval 8"/>
            <p:cNvSpPr/>
            <p:nvPr/>
          </p:nvSpPr>
          <p:spPr>
            <a:xfrm>
              <a:off x="4791240" y="1144440"/>
              <a:ext cx="463320" cy="46368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187960" y="976320"/>
            <a:ext cx="235080" cy="447840"/>
            <a:chOff x="5187960" y="976320"/>
            <a:chExt cx="235080" cy="447840"/>
          </a:xfrm>
        </p:grpSpPr>
        <p:sp>
          <p:nvSpPr>
            <p:cNvPr id="226" name="Oval 10"/>
            <p:cNvSpPr/>
            <p:nvPr/>
          </p:nvSpPr>
          <p:spPr>
            <a:xfrm>
              <a:off x="5189400" y="976320"/>
              <a:ext cx="233640" cy="2332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5187960" y="1190520"/>
              <a:ext cx="233280" cy="2336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28" name="Rectangle 13"/>
          <p:cNvSpPr/>
          <p:nvPr/>
        </p:nvSpPr>
        <p:spPr>
          <a:xfrm>
            <a:off x="1144440" y="3859200"/>
            <a:ext cx="231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6962760" y="5208480"/>
            <a:ext cx="216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4591080" y="961920"/>
            <a:ext cx="235080" cy="447840"/>
            <a:chOff x="4591080" y="961920"/>
            <a:chExt cx="235080" cy="447840"/>
          </a:xfrm>
        </p:grpSpPr>
        <p:sp>
          <p:nvSpPr>
            <p:cNvPr id="231" name="Oval 15"/>
            <p:cNvSpPr/>
            <p:nvPr/>
          </p:nvSpPr>
          <p:spPr>
            <a:xfrm>
              <a:off x="4592520" y="961920"/>
              <a:ext cx="233640" cy="2336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4591080" y="1176480"/>
              <a:ext cx="233280" cy="2332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33" name="Freeform 18"/>
          <p:cNvSpPr/>
          <p:nvPr/>
        </p:nvSpPr>
        <p:spPr>
          <a:xfrm>
            <a:off x="2508120" y="3083040"/>
            <a:ext cx="4469040" cy="1589040"/>
          </a:xfrm>
          <a:prstGeom prst="pie">
            <a:avLst/>
          </a:prstGeom>
          <a:noFill/>
          <a:ln cap="rnd" w="25560">
            <a:solidFill>
              <a:srgbClr val="e84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5" name="Group 6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236" name="Freeform 3"/>
            <p:cNvSpPr/>
            <p:nvPr/>
          </p:nvSpPr>
          <p:spPr>
            <a:xfrm>
              <a:off x="819000" y="4224240"/>
              <a:ext cx="7145640" cy="1511280"/>
            </a:xfrm>
            <a:prstGeom prst="pi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7" name="Rectangle 4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5600880" y="4229280"/>
              <a:ext cx="2358720" cy="1549080"/>
            </a:xfrm>
            <a:prstGeom prst="pie">
              <a:avLst/>
            </a:pr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39" name="Rectangle 7"/>
          <p:cNvSpPr/>
          <p:nvPr/>
        </p:nvSpPr>
        <p:spPr>
          <a:xfrm>
            <a:off x="3486240" y="5181480"/>
            <a:ext cx="2114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0" name="Group 14"/>
          <p:cNvGrpSpPr/>
          <p:nvPr/>
        </p:nvGrpSpPr>
        <p:grpSpPr>
          <a:xfrm>
            <a:off x="882720" y="1949400"/>
            <a:ext cx="996840" cy="550800"/>
            <a:chOff x="882720" y="1949400"/>
            <a:chExt cx="996840" cy="550800"/>
          </a:xfrm>
        </p:grpSpPr>
        <p:grpSp>
          <p:nvGrpSpPr>
            <p:cNvPr id="241" name="Group 10"/>
            <p:cNvGrpSpPr/>
            <p:nvPr/>
          </p:nvGrpSpPr>
          <p:grpSpPr>
            <a:xfrm>
              <a:off x="1339920" y="1949400"/>
              <a:ext cx="539640" cy="550800"/>
              <a:chOff x="1339920" y="1949400"/>
              <a:chExt cx="539640" cy="550800"/>
            </a:xfrm>
          </p:grpSpPr>
          <p:sp>
            <p:nvSpPr>
              <p:cNvPr id="242" name="Oval 8"/>
              <p:cNvSpPr/>
              <p:nvPr/>
            </p:nvSpPr>
            <p:spPr>
              <a:xfrm>
                <a:off x="1339920" y="1949400"/>
                <a:ext cx="539640" cy="52092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43" name="Rectangle 9"/>
              <p:cNvSpPr/>
              <p:nvPr/>
            </p:nvSpPr>
            <p:spPr>
              <a:xfrm>
                <a:off x="1390680" y="1981080"/>
                <a:ext cx="399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3"/>
            <p:cNvGrpSpPr/>
            <p:nvPr/>
          </p:nvGrpSpPr>
          <p:grpSpPr>
            <a:xfrm>
              <a:off x="882720" y="1949400"/>
              <a:ext cx="539640" cy="550800"/>
              <a:chOff x="882720" y="1949400"/>
              <a:chExt cx="539640" cy="550800"/>
            </a:xfrm>
          </p:grpSpPr>
          <p:sp>
            <p:nvSpPr>
              <p:cNvPr id="245" name="Oval 11"/>
              <p:cNvSpPr/>
              <p:nvPr/>
            </p:nvSpPr>
            <p:spPr>
              <a:xfrm>
                <a:off x="882720" y="1949400"/>
                <a:ext cx="539640" cy="52092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46" name="Rectangle 12"/>
              <p:cNvSpPr/>
              <p:nvPr/>
            </p:nvSpPr>
            <p:spPr>
              <a:xfrm>
                <a:off x="933480" y="1981080"/>
                <a:ext cx="399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21"/>
          <p:cNvGrpSpPr/>
          <p:nvPr/>
        </p:nvGrpSpPr>
        <p:grpSpPr>
          <a:xfrm>
            <a:off x="7207200" y="2540160"/>
            <a:ext cx="996840" cy="550800"/>
            <a:chOff x="7207200" y="2540160"/>
            <a:chExt cx="996840" cy="550800"/>
          </a:xfrm>
        </p:grpSpPr>
        <p:grpSp>
          <p:nvGrpSpPr>
            <p:cNvPr id="248" name="Group 17"/>
            <p:cNvGrpSpPr/>
            <p:nvPr/>
          </p:nvGrpSpPr>
          <p:grpSpPr>
            <a:xfrm>
              <a:off x="7664400" y="2540160"/>
              <a:ext cx="539640" cy="550800"/>
              <a:chOff x="7664400" y="2540160"/>
              <a:chExt cx="539640" cy="550800"/>
            </a:xfrm>
          </p:grpSpPr>
          <p:sp>
            <p:nvSpPr>
              <p:cNvPr id="249" name="Oval 15"/>
              <p:cNvSpPr/>
              <p:nvPr/>
            </p:nvSpPr>
            <p:spPr>
              <a:xfrm>
                <a:off x="7664400" y="2540160"/>
                <a:ext cx="539640" cy="52056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50" name="Rectangle 16"/>
              <p:cNvSpPr/>
              <p:nvPr/>
            </p:nvSpPr>
            <p:spPr>
              <a:xfrm>
                <a:off x="7715160" y="2571840"/>
                <a:ext cx="400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0"/>
            <p:cNvGrpSpPr/>
            <p:nvPr/>
          </p:nvGrpSpPr>
          <p:grpSpPr>
            <a:xfrm>
              <a:off x="7207200" y="2540160"/>
              <a:ext cx="539640" cy="550800"/>
              <a:chOff x="7207200" y="2540160"/>
              <a:chExt cx="539640" cy="550800"/>
            </a:xfrm>
          </p:grpSpPr>
          <p:sp>
            <p:nvSpPr>
              <p:cNvPr id="252" name="Oval 18"/>
              <p:cNvSpPr/>
              <p:nvPr/>
            </p:nvSpPr>
            <p:spPr>
              <a:xfrm>
                <a:off x="7207200" y="2540160"/>
                <a:ext cx="539640" cy="52056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53" name="Rectangle 19"/>
              <p:cNvSpPr/>
              <p:nvPr/>
            </p:nvSpPr>
            <p:spPr>
              <a:xfrm>
                <a:off x="7257960" y="2571840"/>
                <a:ext cx="400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24"/>
          <p:cNvGrpSpPr/>
          <p:nvPr/>
        </p:nvGrpSpPr>
        <p:grpSpPr>
          <a:xfrm>
            <a:off x="6559560" y="3778200"/>
            <a:ext cx="539640" cy="550800"/>
            <a:chOff x="6559560" y="3778200"/>
            <a:chExt cx="539640" cy="550800"/>
          </a:xfrm>
        </p:grpSpPr>
        <p:sp>
          <p:nvSpPr>
            <p:cNvPr id="255" name="Oval 22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56" name="Rectangle 23"/>
            <p:cNvSpPr/>
            <p:nvPr/>
          </p:nvSpPr>
          <p:spPr>
            <a:xfrm>
              <a:off x="6610320" y="38098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57" name="Group 27"/>
          <p:cNvGrpSpPr/>
          <p:nvPr/>
        </p:nvGrpSpPr>
        <p:grpSpPr>
          <a:xfrm>
            <a:off x="5969160" y="3625920"/>
            <a:ext cx="539640" cy="550800"/>
            <a:chOff x="5969160" y="3625920"/>
            <a:chExt cx="539640" cy="550800"/>
          </a:xfrm>
        </p:grpSpPr>
        <p:sp>
          <p:nvSpPr>
            <p:cNvPr id="258" name="Oval 25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59" name="Rectangle 26"/>
            <p:cNvSpPr/>
            <p:nvPr/>
          </p:nvSpPr>
          <p:spPr>
            <a:xfrm>
              <a:off x="6019920" y="36576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60" name="Line 28"/>
          <p:cNvSpPr/>
          <p:nvPr/>
        </p:nvSpPr>
        <p:spPr>
          <a:xfrm>
            <a:off x="6286680" y="417204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Line 29"/>
          <p:cNvSpPr/>
          <p:nvPr/>
        </p:nvSpPr>
        <p:spPr>
          <a:xfrm>
            <a:off x="6819840" y="432432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Group 32"/>
          <p:cNvGrpSpPr/>
          <p:nvPr/>
        </p:nvGrpSpPr>
        <p:grpSpPr>
          <a:xfrm>
            <a:off x="1873080" y="4654440"/>
            <a:ext cx="540000" cy="551160"/>
            <a:chOff x="1873080" y="4654440"/>
            <a:chExt cx="540000" cy="551160"/>
          </a:xfrm>
        </p:grpSpPr>
        <p:sp>
          <p:nvSpPr>
            <p:cNvPr id="263" name="Oval 30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64" name="Rectangle 31"/>
            <p:cNvSpPr/>
            <p:nvPr/>
          </p:nvSpPr>
          <p:spPr>
            <a:xfrm>
              <a:off x="1924200" y="46864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65" name="Group 35"/>
          <p:cNvGrpSpPr/>
          <p:nvPr/>
        </p:nvGrpSpPr>
        <p:grpSpPr>
          <a:xfrm>
            <a:off x="1187280" y="4749840"/>
            <a:ext cx="540000" cy="550800"/>
            <a:chOff x="1187280" y="4749840"/>
            <a:chExt cx="540000" cy="550800"/>
          </a:xfrm>
        </p:grpSpPr>
        <p:sp>
          <p:nvSpPr>
            <p:cNvPr id="266" name="Oval 33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1238400" y="4781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68" name="Line 36"/>
          <p:cNvSpPr/>
          <p:nvPr/>
        </p:nvSpPr>
        <p:spPr>
          <a:xfrm>
            <a:off x="1504800" y="529596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2133720" y="520056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533160" y="2376000"/>
            <a:ext cx="5143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ydrogen bonds to surface of me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Break H-H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274" name="Freeform 3"/>
            <p:cNvSpPr/>
            <p:nvPr/>
          </p:nvSpPr>
          <p:spPr>
            <a:xfrm>
              <a:off x="819000" y="4224240"/>
              <a:ext cx="7145640" cy="1511280"/>
            </a:xfrm>
            <a:prstGeom prst="pi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5" name="Rectangle 4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6" name="Freeform 5"/>
            <p:cNvSpPr/>
            <p:nvPr/>
          </p:nvSpPr>
          <p:spPr>
            <a:xfrm>
              <a:off x="5600880" y="4229280"/>
              <a:ext cx="2358720" cy="1549080"/>
            </a:xfrm>
            <a:prstGeom prst="pie">
              <a:avLst/>
            </a:pr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77" name="Rectangle 7"/>
          <p:cNvSpPr/>
          <p:nvPr/>
        </p:nvSpPr>
        <p:spPr>
          <a:xfrm>
            <a:off x="3486240" y="5181480"/>
            <a:ext cx="2114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78" name="Group 10"/>
          <p:cNvGrpSpPr/>
          <p:nvPr/>
        </p:nvGrpSpPr>
        <p:grpSpPr>
          <a:xfrm>
            <a:off x="6559560" y="3778200"/>
            <a:ext cx="539640" cy="550800"/>
            <a:chOff x="6559560" y="3778200"/>
            <a:chExt cx="539640" cy="550800"/>
          </a:xfrm>
        </p:grpSpPr>
        <p:sp>
          <p:nvSpPr>
            <p:cNvPr id="279" name="Oval 8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80" name="Rectangle 9"/>
            <p:cNvSpPr/>
            <p:nvPr/>
          </p:nvSpPr>
          <p:spPr>
            <a:xfrm>
              <a:off x="6610320" y="38098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81" name="Group 13"/>
          <p:cNvGrpSpPr/>
          <p:nvPr/>
        </p:nvGrpSpPr>
        <p:grpSpPr>
          <a:xfrm>
            <a:off x="5969160" y="3625920"/>
            <a:ext cx="539640" cy="550800"/>
            <a:chOff x="5969160" y="3625920"/>
            <a:chExt cx="539640" cy="550800"/>
          </a:xfrm>
        </p:grpSpPr>
        <p:sp>
          <p:nvSpPr>
            <p:cNvPr id="282" name="Oval 11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6019920" y="36576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84" name="Line 14"/>
          <p:cNvSpPr/>
          <p:nvPr/>
        </p:nvSpPr>
        <p:spPr>
          <a:xfrm>
            <a:off x="6286680" y="417204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Line 15"/>
          <p:cNvSpPr/>
          <p:nvPr/>
        </p:nvSpPr>
        <p:spPr>
          <a:xfrm>
            <a:off x="6819840" y="432432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86" name="Group 18"/>
          <p:cNvGrpSpPr/>
          <p:nvPr/>
        </p:nvGrpSpPr>
        <p:grpSpPr>
          <a:xfrm>
            <a:off x="1873080" y="4654440"/>
            <a:ext cx="540000" cy="551160"/>
            <a:chOff x="1873080" y="4654440"/>
            <a:chExt cx="540000" cy="551160"/>
          </a:xfrm>
        </p:grpSpPr>
        <p:sp>
          <p:nvSpPr>
            <p:cNvPr id="287" name="Oval 16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88" name="Rectangle 17"/>
            <p:cNvSpPr/>
            <p:nvPr/>
          </p:nvSpPr>
          <p:spPr>
            <a:xfrm>
              <a:off x="1924200" y="46864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89" name="Group 21"/>
          <p:cNvGrpSpPr/>
          <p:nvPr/>
        </p:nvGrpSpPr>
        <p:grpSpPr>
          <a:xfrm>
            <a:off x="1187280" y="4749840"/>
            <a:ext cx="540000" cy="550800"/>
            <a:chOff x="1187280" y="4749840"/>
            <a:chExt cx="540000" cy="550800"/>
          </a:xfrm>
        </p:grpSpPr>
        <p:sp>
          <p:nvSpPr>
            <p:cNvPr id="290" name="Oval 19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1" name="Rectangle 20"/>
            <p:cNvSpPr/>
            <p:nvPr/>
          </p:nvSpPr>
          <p:spPr>
            <a:xfrm>
              <a:off x="1238400" y="4781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92" name="Line 22"/>
          <p:cNvSpPr/>
          <p:nvPr/>
        </p:nvSpPr>
        <p:spPr>
          <a:xfrm>
            <a:off x="1504800" y="529596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Line 23"/>
          <p:cNvSpPr/>
          <p:nvPr/>
        </p:nvSpPr>
        <p:spPr>
          <a:xfrm>
            <a:off x="2133720" y="520056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5" name="Group 27"/>
          <p:cNvGrpSpPr/>
          <p:nvPr/>
        </p:nvGrpSpPr>
        <p:grpSpPr>
          <a:xfrm>
            <a:off x="3111480" y="2787480"/>
            <a:ext cx="863640" cy="806760"/>
            <a:chOff x="3111480" y="2787480"/>
            <a:chExt cx="863640" cy="806760"/>
          </a:xfrm>
        </p:grpSpPr>
        <p:sp>
          <p:nvSpPr>
            <p:cNvPr id="296" name="Oval 25"/>
            <p:cNvSpPr/>
            <p:nvPr/>
          </p:nvSpPr>
          <p:spPr>
            <a:xfrm>
              <a:off x="3111480" y="2787480"/>
              <a:ext cx="863640" cy="806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7" name="Rectangle 26"/>
            <p:cNvSpPr/>
            <p:nvPr/>
          </p:nvSpPr>
          <p:spPr>
            <a:xfrm>
              <a:off x="3295800" y="2895480"/>
              <a:ext cx="609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98" name="Line 28"/>
          <p:cNvSpPr/>
          <p:nvPr/>
        </p:nvSpPr>
        <p:spPr>
          <a:xfrm>
            <a:off x="2476440" y="30481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>
            <a:off x="1390680" y="323856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Line 30"/>
          <p:cNvSpPr/>
          <p:nvPr/>
        </p:nvSpPr>
        <p:spPr>
          <a:xfrm>
            <a:off x="2514600" y="32767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Line 31"/>
          <p:cNvSpPr/>
          <p:nvPr/>
        </p:nvSpPr>
        <p:spPr>
          <a:xfrm>
            <a:off x="3733920" y="3200400"/>
            <a:ext cx="761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02" name="Group 34"/>
          <p:cNvGrpSpPr/>
          <p:nvPr/>
        </p:nvGrpSpPr>
        <p:grpSpPr>
          <a:xfrm>
            <a:off x="4197240" y="2921040"/>
            <a:ext cx="540000" cy="550800"/>
            <a:chOff x="4197240" y="2921040"/>
            <a:chExt cx="540000" cy="550800"/>
          </a:xfrm>
        </p:grpSpPr>
        <p:sp>
          <p:nvSpPr>
            <p:cNvPr id="303" name="Oval 32"/>
            <p:cNvSpPr/>
            <p:nvPr/>
          </p:nvSpPr>
          <p:spPr>
            <a:xfrm>
              <a:off x="4197240" y="292104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4" name="Rectangle 33"/>
            <p:cNvSpPr/>
            <p:nvPr/>
          </p:nvSpPr>
          <p:spPr>
            <a:xfrm>
              <a:off x="4248000" y="2952720"/>
              <a:ext cx="40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05" name="Group 37"/>
          <p:cNvGrpSpPr/>
          <p:nvPr/>
        </p:nvGrpSpPr>
        <p:grpSpPr>
          <a:xfrm>
            <a:off x="1035000" y="2940120"/>
            <a:ext cx="539640" cy="550800"/>
            <a:chOff x="1035000" y="2940120"/>
            <a:chExt cx="539640" cy="550800"/>
          </a:xfrm>
        </p:grpSpPr>
        <p:sp>
          <p:nvSpPr>
            <p:cNvPr id="306" name="Oval 35"/>
            <p:cNvSpPr/>
            <p:nvPr/>
          </p:nvSpPr>
          <p:spPr>
            <a:xfrm>
              <a:off x="1035000" y="294012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7" name="Rectangle 36"/>
            <p:cNvSpPr/>
            <p:nvPr/>
          </p:nvSpPr>
          <p:spPr>
            <a:xfrm>
              <a:off x="1085760" y="2971800"/>
              <a:ext cx="40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08" name="Group 40"/>
          <p:cNvGrpSpPr/>
          <p:nvPr/>
        </p:nvGrpSpPr>
        <p:grpSpPr>
          <a:xfrm>
            <a:off x="1841400" y="2813040"/>
            <a:ext cx="851040" cy="793800"/>
            <a:chOff x="1841400" y="2813040"/>
            <a:chExt cx="851040" cy="793800"/>
          </a:xfrm>
        </p:grpSpPr>
        <p:sp>
          <p:nvSpPr>
            <p:cNvPr id="309" name="Oval 38"/>
            <p:cNvSpPr/>
            <p:nvPr/>
          </p:nvSpPr>
          <p:spPr>
            <a:xfrm>
              <a:off x="1841400" y="281304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0" name="Rectangle 39"/>
            <p:cNvSpPr/>
            <p:nvPr/>
          </p:nvSpPr>
          <p:spPr>
            <a:xfrm>
              <a:off x="2019240" y="2914560"/>
              <a:ext cx="609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11" name="Line 41"/>
          <p:cNvSpPr/>
          <p:nvPr/>
        </p:nvSpPr>
        <p:spPr>
          <a:xfrm flipV="1">
            <a:off x="2228760" y="243828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Line 42"/>
          <p:cNvSpPr/>
          <p:nvPr/>
        </p:nvSpPr>
        <p:spPr>
          <a:xfrm flipV="1">
            <a:off x="3524400" y="247644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3" name="Group 45"/>
          <p:cNvGrpSpPr/>
          <p:nvPr/>
        </p:nvGrpSpPr>
        <p:grpSpPr>
          <a:xfrm>
            <a:off x="3244680" y="2044800"/>
            <a:ext cx="540000" cy="550800"/>
            <a:chOff x="3244680" y="2044800"/>
            <a:chExt cx="540000" cy="550800"/>
          </a:xfrm>
        </p:grpSpPr>
        <p:sp>
          <p:nvSpPr>
            <p:cNvPr id="314" name="Oval 43"/>
            <p:cNvSpPr/>
            <p:nvPr/>
          </p:nvSpPr>
          <p:spPr>
            <a:xfrm>
              <a:off x="3244680" y="204480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5" name="Rectangle 44"/>
            <p:cNvSpPr/>
            <p:nvPr/>
          </p:nvSpPr>
          <p:spPr>
            <a:xfrm>
              <a:off x="3295800" y="20764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16" name="Group 48"/>
          <p:cNvGrpSpPr/>
          <p:nvPr/>
        </p:nvGrpSpPr>
        <p:grpSpPr>
          <a:xfrm>
            <a:off x="1968480" y="2044800"/>
            <a:ext cx="539640" cy="550800"/>
            <a:chOff x="1968480" y="2044800"/>
            <a:chExt cx="539640" cy="550800"/>
          </a:xfrm>
        </p:grpSpPr>
        <p:sp>
          <p:nvSpPr>
            <p:cNvPr id="317" name="Oval 46"/>
            <p:cNvSpPr/>
            <p:nvPr/>
          </p:nvSpPr>
          <p:spPr>
            <a:xfrm>
              <a:off x="1968480" y="204480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8" name="Rectangle 47"/>
            <p:cNvSpPr/>
            <p:nvPr/>
          </p:nvSpPr>
          <p:spPr>
            <a:xfrm>
              <a:off x="2019240" y="20764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321" name="Freeform 3"/>
            <p:cNvSpPr/>
            <p:nvPr/>
          </p:nvSpPr>
          <p:spPr>
            <a:xfrm>
              <a:off x="819000" y="4224240"/>
              <a:ext cx="7145640" cy="1511280"/>
            </a:xfrm>
            <a:prstGeom prst="pi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2" name="Rectangle 4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3" name="Freeform 5"/>
            <p:cNvSpPr/>
            <p:nvPr/>
          </p:nvSpPr>
          <p:spPr>
            <a:xfrm>
              <a:off x="5600880" y="4229280"/>
              <a:ext cx="2358720" cy="1549080"/>
            </a:xfrm>
            <a:prstGeom prst="pie">
              <a:avLst/>
            </a:pr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3486240" y="5181480"/>
            <a:ext cx="2114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10"/>
          <p:cNvGrpSpPr/>
          <p:nvPr/>
        </p:nvGrpSpPr>
        <p:grpSpPr>
          <a:xfrm>
            <a:off x="6559560" y="3778200"/>
            <a:ext cx="539640" cy="550800"/>
            <a:chOff x="6559560" y="3778200"/>
            <a:chExt cx="539640" cy="550800"/>
          </a:xfrm>
        </p:grpSpPr>
        <p:sp>
          <p:nvSpPr>
            <p:cNvPr id="326" name="Oval 8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10320" y="38098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28" name="Group 13"/>
          <p:cNvGrpSpPr/>
          <p:nvPr/>
        </p:nvGrpSpPr>
        <p:grpSpPr>
          <a:xfrm>
            <a:off x="5969160" y="3625920"/>
            <a:ext cx="539640" cy="550800"/>
            <a:chOff x="5969160" y="3625920"/>
            <a:chExt cx="539640" cy="550800"/>
          </a:xfrm>
        </p:grpSpPr>
        <p:sp>
          <p:nvSpPr>
            <p:cNvPr id="329" name="Oval 11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6019920" y="36576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31" name="Line 14"/>
          <p:cNvSpPr/>
          <p:nvPr/>
        </p:nvSpPr>
        <p:spPr>
          <a:xfrm>
            <a:off x="6286680" y="417204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6819840" y="432432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3" name="Group 18"/>
          <p:cNvGrpSpPr/>
          <p:nvPr/>
        </p:nvGrpSpPr>
        <p:grpSpPr>
          <a:xfrm>
            <a:off x="1873080" y="4654440"/>
            <a:ext cx="540000" cy="551160"/>
            <a:chOff x="1873080" y="4654440"/>
            <a:chExt cx="540000" cy="551160"/>
          </a:xfrm>
        </p:grpSpPr>
        <p:sp>
          <p:nvSpPr>
            <p:cNvPr id="334" name="Oval 16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35" name="Rectangle 17"/>
            <p:cNvSpPr/>
            <p:nvPr/>
          </p:nvSpPr>
          <p:spPr>
            <a:xfrm>
              <a:off x="1924200" y="46864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36" name="Group 21"/>
          <p:cNvGrpSpPr/>
          <p:nvPr/>
        </p:nvGrpSpPr>
        <p:grpSpPr>
          <a:xfrm>
            <a:off x="1187280" y="4749840"/>
            <a:ext cx="540000" cy="550800"/>
            <a:chOff x="1187280" y="4749840"/>
            <a:chExt cx="540000" cy="550800"/>
          </a:xfrm>
        </p:grpSpPr>
        <p:sp>
          <p:nvSpPr>
            <p:cNvPr id="337" name="Oval 19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38" name="Rectangle 20"/>
            <p:cNvSpPr/>
            <p:nvPr/>
          </p:nvSpPr>
          <p:spPr>
            <a:xfrm>
              <a:off x="1238400" y="4781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39" name="Line 22"/>
          <p:cNvSpPr/>
          <p:nvPr/>
        </p:nvSpPr>
        <p:spPr>
          <a:xfrm>
            <a:off x="1504800" y="529596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Line 23"/>
          <p:cNvSpPr/>
          <p:nvPr/>
        </p:nvSpPr>
        <p:spPr>
          <a:xfrm>
            <a:off x="2133720" y="520056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2" name="Group 27"/>
          <p:cNvGrpSpPr/>
          <p:nvPr/>
        </p:nvGrpSpPr>
        <p:grpSpPr>
          <a:xfrm>
            <a:off x="4102200" y="3778200"/>
            <a:ext cx="863640" cy="806400"/>
            <a:chOff x="4102200" y="3778200"/>
            <a:chExt cx="863640" cy="806400"/>
          </a:xfrm>
        </p:grpSpPr>
        <p:sp>
          <p:nvSpPr>
            <p:cNvPr id="343" name="Oval 25"/>
            <p:cNvSpPr/>
            <p:nvPr/>
          </p:nvSpPr>
          <p:spPr>
            <a:xfrm>
              <a:off x="4102200" y="3778200"/>
              <a:ext cx="863640" cy="80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44" name="Rectangle 26"/>
            <p:cNvSpPr/>
            <p:nvPr/>
          </p:nvSpPr>
          <p:spPr>
            <a:xfrm>
              <a:off x="4286160" y="3886200"/>
              <a:ext cx="609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45" name="Line 28"/>
          <p:cNvSpPr/>
          <p:nvPr/>
        </p:nvSpPr>
        <p:spPr>
          <a:xfrm>
            <a:off x="3467160" y="40384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Line 29"/>
          <p:cNvSpPr/>
          <p:nvPr/>
        </p:nvSpPr>
        <p:spPr>
          <a:xfrm>
            <a:off x="2381400" y="4229280"/>
            <a:ext cx="761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>
            <a:off x="4724280" y="41911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33"/>
          <p:cNvGrpSpPr/>
          <p:nvPr/>
        </p:nvGrpSpPr>
        <p:grpSpPr>
          <a:xfrm>
            <a:off x="5187960" y="3911760"/>
            <a:ext cx="539640" cy="550800"/>
            <a:chOff x="5187960" y="3911760"/>
            <a:chExt cx="539640" cy="550800"/>
          </a:xfrm>
        </p:grpSpPr>
        <p:sp>
          <p:nvSpPr>
            <p:cNvPr id="349" name="Oval 31"/>
            <p:cNvSpPr/>
            <p:nvPr/>
          </p:nvSpPr>
          <p:spPr>
            <a:xfrm>
              <a:off x="5187960" y="391176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0" name="Rectangle 32"/>
            <p:cNvSpPr/>
            <p:nvPr/>
          </p:nvSpPr>
          <p:spPr>
            <a:xfrm>
              <a:off x="5238720" y="394344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51" name="Group 36"/>
          <p:cNvGrpSpPr/>
          <p:nvPr/>
        </p:nvGrpSpPr>
        <p:grpSpPr>
          <a:xfrm>
            <a:off x="2025720" y="3930480"/>
            <a:ext cx="539640" cy="551160"/>
            <a:chOff x="2025720" y="3930480"/>
            <a:chExt cx="539640" cy="551160"/>
          </a:xfrm>
        </p:grpSpPr>
        <p:sp>
          <p:nvSpPr>
            <p:cNvPr id="352" name="Oval 34"/>
            <p:cNvSpPr/>
            <p:nvPr/>
          </p:nvSpPr>
          <p:spPr>
            <a:xfrm>
              <a:off x="2025720" y="393048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3" name="Rectangle 35"/>
            <p:cNvSpPr/>
            <p:nvPr/>
          </p:nvSpPr>
          <p:spPr>
            <a:xfrm>
              <a:off x="2076480" y="3962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54" name="Group 39"/>
          <p:cNvGrpSpPr/>
          <p:nvPr/>
        </p:nvGrpSpPr>
        <p:grpSpPr>
          <a:xfrm>
            <a:off x="2832120" y="3803760"/>
            <a:ext cx="851040" cy="793800"/>
            <a:chOff x="2832120" y="3803760"/>
            <a:chExt cx="851040" cy="793800"/>
          </a:xfrm>
        </p:grpSpPr>
        <p:sp>
          <p:nvSpPr>
            <p:cNvPr id="355" name="Oval 37"/>
            <p:cNvSpPr/>
            <p:nvPr/>
          </p:nvSpPr>
          <p:spPr>
            <a:xfrm>
              <a:off x="2832120" y="380376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6" name="Rectangle 38"/>
            <p:cNvSpPr/>
            <p:nvPr/>
          </p:nvSpPr>
          <p:spPr>
            <a:xfrm>
              <a:off x="3009960" y="3905280"/>
              <a:ext cx="609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57" name="Line 40"/>
          <p:cNvSpPr/>
          <p:nvPr/>
        </p:nvSpPr>
        <p:spPr>
          <a:xfrm flipV="1">
            <a:off x="3219480" y="34290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8" name="Line 41"/>
          <p:cNvSpPr/>
          <p:nvPr/>
        </p:nvSpPr>
        <p:spPr>
          <a:xfrm flipV="1">
            <a:off x="4514760" y="346716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4235400" y="3035160"/>
            <a:ext cx="539640" cy="551160"/>
            <a:chOff x="4235400" y="3035160"/>
            <a:chExt cx="539640" cy="551160"/>
          </a:xfrm>
        </p:grpSpPr>
        <p:sp>
          <p:nvSpPr>
            <p:cNvPr id="360" name="Oval 42"/>
            <p:cNvSpPr/>
            <p:nvPr/>
          </p:nvSpPr>
          <p:spPr>
            <a:xfrm>
              <a:off x="42354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1" name="Rectangle 43"/>
            <p:cNvSpPr/>
            <p:nvPr/>
          </p:nvSpPr>
          <p:spPr>
            <a:xfrm>
              <a:off x="4286160" y="3067200"/>
              <a:ext cx="40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2959200" y="3035160"/>
            <a:ext cx="539640" cy="551160"/>
            <a:chOff x="2959200" y="3035160"/>
            <a:chExt cx="539640" cy="551160"/>
          </a:xfrm>
        </p:grpSpPr>
        <p:sp>
          <p:nvSpPr>
            <p:cNvPr id="363" name="Oval 45"/>
            <p:cNvSpPr/>
            <p:nvPr/>
          </p:nvSpPr>
          <p:spPr>
            <a:xfrm>
              <a:off x="29592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4" name="Rectangle 46"/>
            <p:cNvSpPr/>
            <p:nvPr/>
          </p:nvSpPr>
          <p:spPr>
            <a:xfrm>
              <a:off x="3009960" y="30672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65" name="Line 48"/>
          <p:cNvSpPr/>
          <p:nvPr/>
        </p:nvSpPr>
        <p:spPr>
          <a:xfrm flipV="1">
            <a:off x="3276720" y="44766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Line 49"/>
          <p:cNvSpPr/>
          <p:nvPr/>
        </p:nvSpPr>
        <p:spPr>
          <a:xfrm flipV="1">
            <a:off x="4533840" y="4419360"/>
            <a:ext cx="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42720" y="1599840"/>
            <a:ext cx="8096040" cy="13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double bond breaks and bonds to the cataly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9" name="Group 6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370" name="Freeform 3"/>
            <p:cNvSpPr/>
            <p:nvPr/>
          </p:nvSpPr>
          <p:spPr>
            <a:xfrm>
              <a:off x="819000" y="4224240"/>
              <a:ext cx="7145640" cy="1511280"/>
            </a:xfrm>
            <a:prstGeom prst="pi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2" name="Freeform 5"/>
            <p:cNvSpPr/>
            <p:nvPr/>
          </p:nvSpPr>
          <p:spPr>
            <a:xfrm>
              <a:off x="5600880" y="4229280"/>
              <a:ext cx="2358720" cy="1549080"/>
            </a:xfrm>
            <a:prstGeom prst="pie">
              <a:avLst/>
            </a:pr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73" name="Rectangle 7"/>
          <p:cNvSpPr/>
          <p:nvPr/>
        </p:nvSpPr>
        <p:spPr>
          <a:xfrm>
            <a:off x="3486240" y="5181480"/>
            <a:ext cx="2114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4" name="Group 10"/>
          <p:cNvGrpSpPr/>
          <p:nvPr/>
        </p:nvGrpSpPr>
        <p:grpSpPr>
          <a:xfrm>
            <a:off x="6559560" y="3778200"/>
            <a:ext cx="539640" cy="550800"/>
            <a:chOff x="6559560" y="3778200"/>
            <a:chExt cx="539640" cy="550800"/>
          </a:xfrm>
        </p:grpSpPr>
        <p:sp>
          <p:nvSpPr>
            <p:cNvPr id="375" name="Oval 8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6610320" y="38098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77" name="Group 13"/>
          <p:cNvGrpSpPr/>
          <p:nvPr/>
        </p:nvGrpSpPr>
        <p:grpSpPr>
          <a:xfrm>
            <a:off x="5969160" y="3625920"/>
            <a:ext cx="539640" cy="550800"/>
            <a:chOff x="5969160" y="3625920"/>
            <a:chExt cx="539640" cy="550800"/>
          </a:xfrm>
        </p:grpSpPr>
        <p:sp>
          <p:nvSpPr>
            <p:cNvPr id="378" name="Oval 11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6019920" y="36576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80" name="Line 14"/>
          <p:cNvSpPr/>
          <p:nvPr/>
        </p:nvSpPr>
        <p:spPr>
          <a:xfrm>
            <a:off x="6286680" y="417204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6819840" y="432432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82" name="Group 18"/>
          <p:cNvGrpSpPr/>
          <p:nvPr/>
        </p:nvGrpSpPr>
        <p:grpSpPr>
          <a:xfrm>
            <a:off x="1873080" y="4654440"/>
            <a:ext cx="540000" cy="551160"/>
            <a:chOff x="1873080" y="4654440"/>
            <a:chExt cx="540000" cy="551160"/>
          </a:xfrm>
        </p:grpSpPr>
        <p:sp>
          <p:nvSpPr>
            <p:cNvPr id="383" name="Oval 16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4" name="Rectangle 17"/>
            <p:cNvSpPr/>
            <p:nvPr/>
          </p:nvSpPr>
          <p:spPr>
            <a:xfrm>
              <a:off x="1924200" y="46864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85" name="Group 21"/>
          <p:cNvGrpSpPr/>
          <p:nvPr/>
        </p:nvGrpSpPr>
        <p:grpSpPr>
          <a:xfrm>
            <a:off x="1187280" y="4749840"/>
            <a:ext cx="540000" cy="550800"/>
            <a:chOff x="1187280" y="4749840"/>
            <a:chExt cx="540000" cy="550800"/>
          </a:xfrm>
        </p:grpSpPr>
        <p:sp>
          <p:nvSpPr>
            <p:cNvPr id="386" name="Oval 19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1238400" y="4781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88" name="Line 22"/>
          <p:cNvSpPr/>
          <p:nvPr/>
        </p:nvSpPr>
        <p:spPr>
          <a:xfrm>
            <a:off x="1504800" y="529596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" name="Line 23"/>
          <p:cNvSpPr/>
          <p:nvPr/>
        </p:nvSpPr>
        <p:spPr>
          <a:xfrm>
            <a:off x="2133720" y="520056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1" name="Group 27"/>
          <p:cNvGrpSpPr/>
          <p:nvPr/>
        </p:nvGrpSpPr>
        <p:grpSpPr>
          <a:xfrm>
            <a:off x="4102200" y="3778200"/>
            <a:ext cx="863640" cy="806400"/>
            <a:chOff x="4102200" y="3778200"/>
            <a:chExt cx="863640" cy="806400"/>
          </a:xfrm>
        </p:grpSpPr>
        <p:sp>
          <p:nvSpPr>
            <p:cNvPr id="392" name="Oval 25"/>
            <p:cNvSpPr/>
            <p:nvPr/>
          </p:nvSpPr>
          <p:spPr>
            <a:xfrm>
              <a:off x="4102200" y="3778200"/>
              <a:ext cx="863640" cy="80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3" name="Rectangle 26"/>
            <p:cNvSpPr/>
            <p:nvPr/>
          </p:nvSpPr>
          <p:spPr>
            <a:xfrm>
              <a:off x="4286160" y="3886200"/>
              <a:ext cx="609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94" name="Line 28"/>
          <p:cNvSpPr/>
          <p:nvPr/>
        </p:nvSpPr>
        <p:spPr>
          <a:xfrm>
            <a:off x="3467160" y="40384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Line 29"/>
          <p:cNvSpPr/>
          <p:nvPr/>
        </p:nvSpPr>
        <p:spPr>
          <a:xfrm>
            <a:off x="2381400" y="4229280"/>
            <a:ext cx="761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Line 30"/>
          <p:cNvSpPr/>
          <p:nvPr/>
        </p:nvSpPr>
        <p:spPr>
          <a:xfrm>
            <a:off x="4724280" y="41911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7" name="Group 33"/>
          <p:cNvGrpSpPr/>
          <p:nvPr/>
        </p:nvGrpSpPr>
        <p:grpSpPr>
          <a:xfrm>
            <a:off x="5187960" y="3911760"/>
            <a:ext cx="539640" cy="550800"/>
            <a:chOff x="5187960" y="3911760"/>
            <a:chExt cx="539640" cy="550800"/>
          </a:xfrm>
        </p:grpSpPr>
        <p:sp>
          <p:nvSpPr>
            <p:cNvPr id="398" name="Oval 31"/>
            <p:cNvSpPr/>
            <p:nvPr/>
          </p:nvSpPr>
          <p:spPr>
            <a:xfrm>
              <a:off x="5187960" y="391176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9" name="Rectangle 32"/>
            <p:cNvSpPr/>
            <p:nvPr/>
          </p:nvSpPr>
          <p:spPr>
            <a:xfrm>
              <a:off x="5238720" y="394344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00" name="Group 36"/>
          <p:cNvGrpSpPr/>
          <p:nvPr/>
        </p:nvGrpSpPr>
        <p:grpSpPr>
          <a:xfrm>
            <a:off x="2025720" y="3930480"/>
            <a:ext cx="539640" cy="551160"/>
            <a:chOff x="2025720" y="3930480"/>
            <a:chExt cx="539640" cy="551160"/>
          </a:xfrm>
        </p:grpSpPr>
        <p:sp>
          <p:nvSpPr>
            <p:cNvPr id="401" name="Oval 34"/>
            <p:cNvSpPr/>
            <p:nvPr/>
          </p:nvSpPr>
          <p:spPr>
            <a:xfrm>
              <a:off x="2025720" y="393048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02" name="Rectangle 35"/>
            <p:cNvSpPr/>
            <p:nvPr/>
          </p:nvSpPr>
          <p:spPr>
            <a:xfrm>
              <a:off x="2076480" y="3962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03" name="Group 39"/>
          <p:cNvGrpSpPr/>
          <p:nvPr/>
        </p:nvGrpSpPr>
        <p:grpSpPr>
          <a:xfrm>
            <a:off x="2832120" y="3803760"/>
            <a:ext cx="851040" cy="793800"/>
            <a:chOff x="2832120" y="3803760"/>
            <a:chExt cx="851040" cy="793800"/>
          </a:xfrm>
        </p:grpSpPr>
        <p:sp>
          <p:nvSpPr>
            <p:cNvPr id="404" name="Oval 37"/>
            <p:cNvSpPr/>
            <p:nvPr/>
          </p:nvSpPr>
          <p:spPr>
            <a:xfrm>
              <a:off x="2832120" y="380376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05" name="Rectangle 38"/>
            <p:cNvSpPr/>
            <p:nvPr/>
          </p:nvSpPr>
          <p:spPr>
            <a:xfrm>
              <a:off x="3009960" y="3905280"/>
              <a:ext cx="609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06" name="Line 40"/>
          <p:cNvSpPr/>
          <p:nvPr/>
        </p:nvSpPr>
        <p:spPr>
          <a:xfrm flipV="1">
            <a:off x="3219480" y="34290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7" name="Line 41"/>
          <p:cNvSpPr/>
          <p:nvPr/>
        </p:nvSpPr>
        <p:spPr>
          <a:xfrm flipV="1">
            <a:off x="4514760" y="346716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4235400" y="3035160"/>
            <a:ext cx="539640" cy="551160"/>
            <a:chOff x="4235400" y="3035160"/>
            <a:chExt cx="539640" cy="551160"/>
          </a:xfrm>
        </p:grpSpPr>
        <p:sp>
          <p:nvSpPr>
            <p:cNvPr id="409" name="Oval 42"/>
            <p:cNvSpPr/>
            <p:nvPr/>
          </p:nvSpPr>
          <p:spPr>
            <a:xfrm>
              <a:off x="42354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10" name="Rectangle 43"/>
            <p:cNvSpPr/>
            <p:nvPr/>
          </p:nvSpPr>
          <p:spPr>
            <a:xfrm>
              <a:off x="4286160" y="3067200"/>
              <a:ext cx="40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11" name="Group 47"/>
          <p:cNvGrpSpPr/>
          <p:nvPr/>
        </p:nvGrpSpPr>
        <p:grpSpPr>
          <a:xfrm>
            <a:off x="2959200" y="3035160"/>
            <a:ext cx="539640" cy="551160"/>
            <a:chOff x="2959200" y="3035160"/>
            <a:chExt cx="539640" cy="551160"/>
          </a:xfrm>
        </p:grpSpPr>
        <p:sp>
          <p:nvSpPr>
            <p:cNvPr id="412" name="Oval 45"/>
            <p:cNvSpPr/>
            <p:nvPr/>
          </p:nvSpPr>
          <p:spPr>
            <a:xfrm>
              <a:off x="29592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13" name="Rectangle 46"/>
            <p:cNvSpPr/>
            <p:nvPr/>
          </p:nvSpPr>
          <p:spPr>
            <a:xfrm>
              <a:off x="3009960" y="30672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14" name="Line 48"/>
          <p:cNvSpPr/>
          <p:nvPr/>
        </p:nvSpPr>
        <p:spPr>
          <a:xfrm flipV="1">
            <a:off x="3276720" y="44766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Line 49"/>
          <p:cNvSpPr/>
          <p:nvPr/>
        </p:nvSpPr>
        <p:spPr>
          <a:xfrm flipV="1">
            <a:off x="4533840" y="4419360"/>
            <a:ext cx="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42720" y="1599840"/>
            <a:ext cx="8096040" cy="13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hydrogen atoms bond with the carb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rc 51"/>
          <p:cNvSpPr/>
          <p:nvPr/>
        </p:nvSpPr>
        <p:spPr>
          <a:xfrm>
            <a:off x="4573440" y="4152960"/>
            <a:ext cx="2251080" cy="1162080"/>
          </a:xfrm>
          <a:prstGeom prst="pie">
            <a:avLst/>
          </a:prstGeom>
          <a:noFill/>
          <a:ln cap="rnd" w="50760">
            <a:solidFill>
              <a:srgbClr val="e844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Arc 52"/>
          <p:cNvSpPr/>
          <p:nvPr/>
        </p:nvSpPr>
        <p:spPr>
          <a:xfrm>
            <a:off x="2135160" y="4549680"/>
            <a:ext cx="1162080" cy="1411560"/>
          </a:xfrm>
          <a:prstGeom prst="pie">
            <a:avLst/>
          </a:prstGeom>
          <a:noFill/>
          <a:ln cap="rnd" w="50760">
            <a:solidFill>
              <a:srgbClr val="e844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0" name="Group 6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421" name="Freeform 3"/>
            <p:cNvSpPr/>
            <p:nvPr/>
          </p:nvSpPr>
          <p:spPr>
            <a:xfrm>
              <a:off x="819000" y="4224240"/>
              <a:ext cx="7145640" cy="1511280"/>
            </a:xfrm>
            <a:prstGeom prst="pi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23" name="Freeform 5"/>
            <p:cNvSpPr/>
            <p:nvPr/>
          </p:nvSpPr>
          <p:spPr>
            <a:xfrm>
              <a:off x="5600880" y="4229280"/>
              <a:ext cx="2358720" cy="1549080"/>
            </a:xfrm>
            <a:prstGeom prst="pie">
              <a:avLst/>
            </a:pr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24" name="Rectangle 7"/>
          <p:cNvSpPr/>
          <p:nvPr/>
        </p:nvSpPr>
        <p:spPr>
          <a:xfrm>
            <a:off x="3486240" y="5181480"/>
            <a:ext cx="2114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Line 8"/>
          <p:cNvSpPr/>
          <p:nvPr/>
        </p:nvSpPr>
        <p:spPr>
          <a:xfrm>
            <a:off x="6286680" y="417204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1187280" y="4749840"/>
            <a:ext cx="540000" cy="550800"/>
            <a:chOff x="1187280" y="4749840"/>
            <a:chExt cx="540000" cy="550800"/>
          </a:xfrm>
        </p:grpSpPr>
        <p:sp>
          <p:nvSpPr>
            <p:cNvPr id="427" name="Oval 9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28" name="Rectangle 10"/>
            <p:cNvSpPr/>
            <p:nvPr/>
          </p:nvSpPr>
          <p:spPr>
            <a:xfrm>
              <a:off x="1238400" y="4781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29" name="Line 12"/>
          <p:cNvSpPr/>
          <p:nvPr/>
        </p:nvSpPr>
        <p:spPr>
          <a:xfrm>
            <a:off x="1504800" y="529596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31" name="Group 16"/>
          <p:cNvGrpSpPr/>
          <p:nvPr/>
        </p:nvGrpSpPr>
        <p:grpSpPr>
          <a:xfrm>
            <a:off x="4006800" y="2768760"/>
            <a:ext cx="863640" cy="806400"/>
            <a:chOff x="4006800" y="2768760"/>
            <a:chExt cx="863640" cy="806400"/>
          </a:xfrm>
        </p:grpSpPr>
        <p:sp>
          <p:nvSpPr>
            <p:cNvPr id="432" name="Oval 14"/>
            <p:cNvSpPr/>
            <p:nvPr/>
          </p:nvSpPr>
          <p:spPr>
            <a:xfrm>
              <a:off x="4006800" y="2768760"/>
              <a:ext cx="863640" cy="80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33" name="Rectangle 15"/>
            <p:cNvSpPr/>
            <p:nvPr/>
          </p:nvSpPr>
          <p:spPr>
            <a:xfrm>
              <a:off x="4191120" y="2876400"/>
              <a:ext cx="609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34" name="Line 17"/>
          <p:cNvSpPr/>
          <p:nvPr/>
        </p:nvSpPr>
        <p:spPr>
          <a:xfrm>
            <a:off x="3429000" y="320040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5" name="Line 18"/>
          <p:cNvSpPr/>
          <p:nvPr/>
        </p:nvSpPr>
        <p:spPr>
          <a:xfrm>
            <a:off x="2286000" y="32194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Line 19"/>
          <p:cNvSpPr/>
          <p:nvPr/>
        </p:nvSpPr>
        <p:spPr>
          <a:xfrm>
            <a:off x="4629240" y="3181320"/>
            <a:ext cx="761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37" name="Group 22"/>
          <p:cNvGrpSpPr/>
          <p:nvPr/>
        </p:nvGrpSpPr>
        <p:grpSpPr>
          <a:xfrm>
            <a:off x="5092560" y="2901960"/>
            <a:ext cx="540000" cy="550800"/>
            <a:chOff x="5092560" y="2901960"/>
            <a:chExt cx="540000" cy="550800"/>
          </a:xfrm>
        </p:grpSpPr>
        <p:sp>
          <p:nvSpPr>
            <p:cNvPr id="438" name="Oval 20"/>
            <p:cNvSpPr/>
            <p:nvPr/>
          </p:nvSpPr>
          <p:spPr>
            <a:xfrm>
              <a:off x="5092560" y="290196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39" name="Rectangle 21"/>
            <p:cNvSpPr/>
            <p:nvPr/>
          </p:nvSpPr>
          <p:spPr>
            <a:xfrm>
              <a:off x="5143680" y="293364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40" name="Group 25"/>
          <p:cNvGrpSpPr/>
          <p:nvPr/>
        </p:nvGrpSpPr>
        <p:grpSpPr>
          <a:xfrm>
            <a:off x="1930320" y="2921040"/>
            <a:ext cx="540000" cy="550800"/>
            <a:chOff x="1930320" y="2921040"/>
            <a:chExt cx="540000" cy="550800"/>
          </a:xfrm>
        </p:grpSpPr>
        <p:sp>
          <p:nvSpPr>
            <p:cNvPr id="441" name="Oval 23"/>
            <p:cNvSpPr/>
            <p:nvPr/>
          </p:nvSpPr>
          <p:spPr>
            <a:xfrm>
              <a:off x="1930320" y="292104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2" name="Rectangle 24"/>
            <p:cNvSpPr/>
            <p:nvPr/>
          </p:nvSpPr>
          <p:spPr>
            <a:xfrm>
              <a:off x="1981080" y="2952720"/>
              <a:ext cx="40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43" name="Group 28"/>
          <p:cNvGrpSpPr/>
          <p:nvPr/>
        </p:nvGrpSpPr>
        <p:grpSpPr>
          <a:xfrm>
            <a:off x="2736720" y="2793960"/>
            <a:ext cx="851040" cy="793800"/>
            <a:chOff x="2736720" y="2793960"/>
            <a:chExt cx="851040" cy="793800"/>
          </a:xfrm>
        </p:grpSpPr>
        <p:sp>
          <p:nvSpPr>
            <p:cNvPr id="444" name="Oval 26"/>
            <p:cNvSpPr/>
            <p:nvPr/>
          </p:nvSpPr>
          <p:spPr>
            <a:xfrm>
              <a:off x="2736720" y="279396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5" name="Rectangle 27"/>
            <p:cNvSpPr/>
            <p:nvPr/>
          </p:nvSpPr>
          <p:spPr>
            <a:xfrm>
              <a:off x="2914560" y="2895480"/>
              <a:ext cx="609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46" name="Line 29"/>
          <p:cNvSpPr/>
          <p:nvPr/>
        </p:nvSpPr>
        <p:spPr>
          <a:xfrm flipV="1">
            <a:off x="3124080" y="24192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Line 30"/>
          <p:cNvSpPr/>
          <p:nvPr/>
        </p:nvSpPr>
        <p:spPr>
          <a:xfrm flipV="1">
            <a:off x="4419720" y="245736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48" name="Group 33"/>
          <p:cNvGrpSpPr/>
          <p:nvPr/>
        </p:nvGrpSpPr>
        <p:grpSpPr>
          <a:xfrm>
            <a:off x="4140360" y="2025720"/>
            <a:ext cx="539640" cy="550800"/>
            <a:chOff x="4140360" y="2025720"/>
            <a:chExt cx="539640" cy="550800"/>
          </a:xfrm>
        </p:grpSpPr>
        <p:sp>
          <p:nvSpPr>
            <p:cNvPr id="449" name="Oval 31"/>
            <p:cNvSpPr/>
            <p:nvPr/>
          </p:nvSpPr>
          <p:spPr>
            <a:xfrm>
              <a:off x="4140360" y="202572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0" name="Rectangle 32"/>
            <p:cNvSpPr/>
            <p:nvPr/>
          </p:nvSpPr>
          <p:spPr>
            <a:xfrm>
              <a:off x="4191120" y="20574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51" name="Group 36"/>
          <p:cNvGrpSpPr/>
          <p:nvPr/>
        </p:nvGrpSpPr>
        <p:grpSpPr>
          <a:xfrm>
            <a:off x="2863800" y="2025720"/>
            <a:ext cx="539640" cy="550800"/>
            <a:chOff x="2863800" y="2025720"/>
            <a:chExt cx="539640" cy="550800"/>
          </a:xfrm>
        </p:grpSpPr>
        <p:sp>
          <p:nvSpPr>
            <p:cNvPr id="452" name="Oval 34"/>
            <p:cNvSpPr/>
            <p:nvPr/>
          </p:nvSpPr>
          <p:spPr>
            <a:xfrm>
              <a:off x="2863800" y="202572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3" name="Rectangle 35"/>
            <p:cNvSpPr/>
            <p:nvPr/>
          </p:nvSpPr>
          <p:spPr>
            <a:xfrm>
              <a:off x="2914560" y="2057400"/>
              <a:ext cx="40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54" name="Line 37"/>
          <p:cNvSpPr/>
          <p:nvPr/>
        </p:nvSpPr>
        <p:spPr>
          <a:xfrm flipV="1">
            <a:off x="3181320" y="346716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5" name="Line 38"/>
          <p:cNvSpPr/>
          <p:nvPr/>
        </p:nvSpPr>
        <p:spPr>
          <a:xfrm flipV="1">
            <a:off x="4438800" y="340992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56" name="Group 41"/>
          <p:cNvGrpSpPr/>
          <p:nvPr/>
        </p:nvGrpSpPr>
        <p:grpSpPr>
          <a:xfrm>
            <a:off x="4178160" y="3759120"/>
            <a:ext cx="540000" cy="550800"/>
            <a:chOff x="4178160" y="3759120"/>
            <a:chExt cx="540000" cy="550800"/>
          </a:xfrm>
        </p:grpSpPr>
        <p:sp>
          <p:nvSpPr>
            <p:cNvPr id="457" name="Oval 39"/>
            <p:cNvSpPr/>
            <p:nvPr/>
          </p:nvSpPr>
          <p:spPr>
            <a:xfrm>
              <a:off x="4178160" y="375912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8" name="Rectangle 40"/>
            <p:cNvSpPr/>
            <p:nvPr/>
          </p:nvSpPr>
          <p:spPr>
            <a:xfrm>
              <a:off x="4229280" y="37908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59" name="Group 44"/>
          <p:cNvGrpSpPr/>
          <p:nvPr/>
        </p:nvGrpSpPr>
        <p:grpSpPr>
          <a:xfrm>
            <a:off x="6006960" y="3759120"/>
            <a:ext cx="540000" cy="550800"/>
            <a:chOff x="6006960" y="3759120"/>
            <a:chExt cx="540000" cy="550800"/>
          </a:xfrm>
        </p:grpSpPr>
        <p:sp>
          <p:nvSpPr>
            <p:cNvPr id="460" name="Oval 42"/>
            <p:cNvSpPr/>
            <p:nvPr/>
          </p:nvSpPr>
          <p:spPr>
            <a:xfrm>
              <a:off x="6006960" y="375912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1" name="Rectangle 43"/>
            <p:cNvSpPr/>
            <p:nvPr/>
          </p:nvSpPr>
          <p:spPr>
            <a:xfrm>
              <a:off x="6058080" y="37908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62" name="Group 47"/>
          <p:cNvGrpSpPr/>
          <p:nvPr/>
        </p:nvGrpSpPr>
        <p:grpSpPr>
          <a:xfrm>
            <a:off x="2901960" y="3797280"/>
            <a:ext cx="539640" cy="550800"/>
            <a:chOff x="2901960" y="3797280"/>
            <a:chExt cx="539640" cy="550800"/>
          </a:xfrm>
        </p:grpSpPr>
        <p:sp>
          <p:nvSpPr>
            <p:cNvPr id="463" name="Oval 45"/>
            <p:cNvSpPr/>
            <p:nvPr/>
          </p:nvSpPr>
          <p:spPr>
            <a:xfrm>
              <a:off x="2901960" y="379728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4" name="Rectangle 46"/>
            <p:cNvSpPr/>
            <p:nvPr/>
          </p:nvSpPr>
          <p:spPr>
            <a:xfrm>
              <a:off x="2952720" y="382896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Object 2"/>
          <p:cNvGraphicFramePr/>
          <p:nvPr/>
        </p:nvGraphicFramePr>
        <p:xfrm>
          <a:off x="487440" y="914400"/>
          <a:ext cx="811692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914400"/>
                    <a:ext cx="81169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versible Reac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are spontaneous i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is neg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is positive the reaction happen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 the opposit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 +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 + energy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 +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3724200" y="4923000"/>
            <a:ext cx="1015920" cy="428400"/>
            <a:chOff x="3724200" y="4923000"/>
            <a:chExt cx="1015920" cy="428400"/>
          </a:xfrm>
        </p:grpSpPr>
        <p:sp>
          <p:nvSpPr>
            <p:cNvPr id="470" name="Freeform 5"/>
            <p:cNvSpPr/>
            <p:nvPr/>
          </p:nvSpPr>
          <p:spPr>
            <a:xfrm>
              <a:off x="3724200" y="4923000"/>
              <a:ext cx="1015920" cy="15372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3724200" y="5197320"/>
              <a:ext cx="101592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llision Theo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rder to react molecules and atoms must touch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ust hit each other hard enough to re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break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that increases how often and how hard will make the reaction fa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5560" y="140004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first put reactants together the forward reaction st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re are no products there is no reverse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forward reaction proceeds the reactants are used up so the forward reaction s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s build up, and the reverse reaction speed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39560" y="1339920"/>
            <a:ext cx="8342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you reach a point where the reverse reaction is going as fast as the forward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dynamic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e of the forward reaction is equal to the rate of the reverse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centration of products and reactants stays the same, but the reactions are still runn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39200" y="1600200"/>
            <a:ext cx="8170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quilibrium posi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w much product and reactant there are at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n with the double arr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are f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s are f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sts speed up both the forward and reverse reactions so don’t affect equilibrium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Group 4"/>
          <p:cNvGrpSpPr/>
          <p:nvPr/>
        </p:nvGrpSpPr>
        <p:grpSpPr>
          <a:xfrm>
            <a:off x="861840" y="3193920"/>
            <a:ext cx="1708200" cy="428760"/>
            <a:chOff x="861840" y="3193920"/>
            <a:chExt cx="1708200" cy="428760"/>
          </a:xfrm>
        </p:grpSpPr>
        <p:sp>
          <p:nvSpPr>
            <p:cNvPr id="479" name="Freeform 5"/>
            <p:cNvSpPr/>
            <p:nvPr/>
          </p:nvSpPr>
          <p:spPr>
            <a:xfrm>
              <a:off x="1262160" y="3193920"/>
              <a:ext cx="101592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80" name="Freeform 6"/>
            <p:cNvSpPr/>
            <p:nvPr/>
          </p:nvSpPr>
          <p:spPr>
            <a:xfrm>
              <a:off x="861840" y="3456000"/>
              <a:ext cx="1708200" cy="1666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81" name="Group 7"/>
          <p:cNvGrpSpPr/>
          <p:nvPr/>
        </p:nvGrpSpPr>
        <p:grpSpPr>
          <a:xfrm>
            <a:off x="896400" y="3782880"/>
            <a:ext cx="1708200" cy="428760"/>
            <a:chOff x="896400" y="3782880"/>
            <a:chExt cx="1708200" cy="428760"/>
          </a:xfrm>
        </p:grpSpPr>
        <p:sp>
          <p:nvSpPr>
            <p:cNvPr id="482" name="Freeform 8"/>
            <p:cNvSpPr/>
            <p:nvPr/>
          </p:nvSpPr>
          <p:spPr>
            <a:xfrm flipH="1">
              <a:off x="1188360" y="4057560"/>
              <a:ext cx="101592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83" name="Freeform 9"/>
            <p:cNvSpPr/>
            <p:nvPr/>
          </p:nvSpPr>
          <p:spPr>
            <a:xfrm flipH="1">
              <a:off x="896040" y="3782880"/>
              <a:ext cx="1708200" cy="1666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39200" y="1600200"/>
            <a:ext cx="8170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sts speed up both the forward and reverse reactions so don’t affect equilibrium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get you there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easuring 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14240" y="13762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equilibrium the concentrations of products and reactants are cons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write a constant that will tell us where the equilibrium position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quilibrium con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eq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[Products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coefficient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Reactants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coeffici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are brackets [ ] means concentration in molarity (moles/lite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799920"/>
            <a:ext cx="819288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ing Equilibrium Express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equ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 + bB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cC + 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[C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D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equilibrium expressions for the following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3265560" y="1803240"/>
            <a:ext cx="1015920" cy="428760"/>
            <a:chOff x="3265560" y="1803240"/>
            <a:chExt cx="1015920" cy="428760"/>
          </a:xfrm>
        </p:grpSpPr>
        <p:sp>
          <p:nvSpPr>
            <p:cNvPr id="491" name="Freeform 5"/>
            <p:cNvSpPr/>
            <p:nvPr/>
          </p:nvSpPr>
          <p:spPr>
            <a:xfrm>
              <a:off x="3265560" y="1803240"/>
              <a:ext cx="101592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92" name="Freeform 6"/>
            <p:cNvSpPr/>
            <p:nvPr/>
          </p:nvSpPr>
          <p:spPr>
            <a:xfrm>
              <a:off x="3265560" y="2077920"/>
              <a:ext cx="101592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93" name="Line 7"/>
          <p:cNvSpPr/>
          <p:nvPr/>
        </p:nvSpPr>
        <p:spPr>
          <a:xfrm>
            <a:off x="1800360" y="3033720"/>
            <a:ext cx="1931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4" name="Group 8"/>
          <p:cNvGrpSpPr/>
          <p:nvPr/>
        </p:nvGrpSpPr>
        <p:grpSpPr>
          <a:xfrm>
            <a:off x="3803760" y="4741920"/>
            <a:ext cx="1015920" cy="428400"/>
            <a:chOff x="3803760" y="4741920"/>
            <a:chExt cx="1015920" cy="428400"/>
          </a:xfrm>
        </p:grpSpPr>
        <p:sp>
          <p:nvSpPr>
            <p:cNvPr id="495" name="Freeform 9"/>
            <p:cNvSpPr/>
            <p:nvPr/>
          </p:nvSpPr>
          <p:spPr>
            <a:xfrm>
              <a:off x="3803760" y="4741920"/>
              <a:ext cx="101592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96" name="Freeform 10"/>
            <p:cNvSpPr/>
            <p:nvPr/>
          </p:nvSpPr>
          <p:spPr>
            <a:xfrm>
              <a:off x="3803760" y="5016600"/>
              <a:ext cx="1015920" cy="15372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2674800" y="5278320"/>
            <a:ext cx="1016280" cy="428760"/>
            <a:chOff x="2674800" y="5278320"/>
            <a:chExt cx="1016280" cy="428760"/>
          </a:xfrm>
        </p:grpSpPr>
        <p:sp>
          <p:nvSpPr>
            <p:cNvPr id="498" name="Freeform 12"/>
            <p:cNvSpPr/>
            <p:nvPr/>
          </p:nvSpPr>
          <p:spPr>
            <a:xfrm>
              <a:off x="2674800" y="5278320"/>
              <a:ext cx="101628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2674800" y="5553000"/>
              <a:ext cx="101628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ing 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equilibrium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nst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is only effected by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equilibrium constant for the following reaction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2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if at 25ºC there 0.15 mol of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 0.25 mol of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0.10 mol o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 2.0 L contai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4"/>
          <p:cNvGrpSpPr/>
          <p:nvPr/>
        </p:nvGrpSpPr>
        <p:grpSpPr>
          <a:xfrm>
            <a:off x="4290840" y="3227400"/>
            <a:ext cx="1016280" cy="428760"/>
            <a:chOff x="4290840" y="3227400"/>
            <a:chExt cx="1016280" cy="428760"/>
          </a:xfrm>
        </p:grpSpPr>
        <p:sp>
          <p:nvSpPr>
            <p:cNvPr id="503" name="Freeform 5"/>
            <p:cNvSpPr/>
            <p:nvPr/>
          </p:nvSpPr>
          <p:spPr>
            <a:xfrm>
              <a:off x="4290840" y="3227400"/>
              <a:ext cx="101628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04" name="Freeform 6"/>
            <p:cNvSpPr/>
            <p:nvPr/>
          </p:nvSpPr>
          <p:spPr>
            <a:xfrm>
              <a:off x="4290840" y="3502080"/>
              <a:ext cx="101628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it tells u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gt; 1 Products are f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roducts than reactants at 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lt; 1 Reactants are f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50956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eChâtelier’s Princi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aining 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eChâtelier’s Princi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thing is changed in a system at equilibrium, the system will respond to relieve the st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types of stress are appl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087560" y="509760"/>
            <a:ext cx="7607160" cy="5397480"/>
          </a:xfrm>
          <a:prstGeom prst="rect">
            <a:avLst/>
          </a:prstGeom>
          <a:solidFill>
            <a:srgbClr val="b3b9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 rot="16200000">
            <a:off x="75600" y="388620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 flipV="1">
            <a:off x="838080" y="182844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886120" y="5853240"/>
            <a:ext cx="449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coordina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Freeform 6"/>
          <p:cNvSpPr/>
          <p:nvPr/>
        </p:nvSpPr>
        <p:spPr>
          <a:xfrm>
            <a:off x="1373040" y="1692360"/>
            <a:ext cx="7164360" cy="3519360"/>
          </a:xfrm>
          <a:prstGeom prst="pie">
            <a:avLst/>
          </a:prstGeom>
          <a:noFill/>
          <a:ln cap="rnd"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144440" y="3859200"/>
            <a:ext cx="231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6962760" y="5208480"/>
            <a:ext cx="216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5" name="Group 18"/>
          <p:cNvGrpSpPr/>
          <p:nvPr/>
        </p:nvGrpSpPr>
        <p:grpSpPr>
          <a:xfrm>
            <a:off x="1349280" y="2846520"/>
            <a:ext cx="1332000" cy="799920"/>
            <a:chOff x="1349280" y="2846520"/>
            <a:chExt cx="1332000" cy="799920"/>
          </a:xfrm>
        </p:grpSpPr>
        <p:grpSp>
          <p:nvGrpSpPr>
            <p:cNvPr id="66" name="Group 11"/>
            <p:cNvGrpSpPr/>
            <p:nvPr/>
          </p:nvGrpSpPr>
          <p:grpSpPr>
            <a:xfrm>
              <a:off x="1749600" y="2846520"/>
              <a:ext cx="465120" cy="799920"/>
              <a:chOff x="1749600" y="2846520"/>
              <a:chExt cx="465120" cy="799920"/>
            </a:xfrm>
          </p:grpSpPr>
          <p:sp>
            <p:nvSpPr>
              <p:cNvPr id="67" name="Oval 9"/>
              <p:cNvSpPr/>
              <p:nvPr/>
            </p:nvSpPr>
            <p:spPr>
              <a:xfrm>
                <a:off x="1751040" y="2846520"/>
                <a:ext cx="46368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68" name="Oval 10"/>
              <p:cNvSpPr/>
              <p:nvPr/>
            </p:nvSpPr>
            <p:spPr>
              <a:xfrm>
                <a:off x="1749600" y="3182760"/>
                <a:ext cx="46332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4"/>
            <p:cNvGrpSpPr/>
            <p:nvPr/>
          </p:nvGrpSpPr>
          <p:grpSpPr>
            <a:xfrm>
              <a:off x="2446200" y="3032280"/>
              <a:ext cx="235080" cy="447480"/>
              <a:chOff x="2446200" y="3032280"/>
              <a:chExt cx="235080" cy="447480"/>
            </a:xfrm>
          </p:grpSpPr>
          <p:sp>
            <p:nvSpPr>
              <p:cNvPr id="70" name="Oval 12"/>
              <p:cNvSpPr/>
              <p:nvPr/>
            </p:nvSpPr>
            <p:spPr>
              <a:xfrm>
                <a:off x="2448000" y="303228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71" name="Oval 13"/>
              <p:cNvSpPr/>
              <p:nvPr/>
            </p:nvSpPr>
            <p:spPr>
              <a:xfrm>
                <a:off x="2446200" y="3246480"/>
                <a:ext cx="23364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1349280" y="3049560"/>
              <a:ext cx="235080" cy="447840"/>
              <a:chOff x="1349280" y="3049560"/>
              <a:chExt cx="235080" cy="447840"/>
            </a:xfrm>
          </p:grpSpPr>
          <p:sp>
            <p:nvSpPr>
              <p:cNvPr id="73" name="Oval 15"/>
              <p:cNvSpPr/>
              <p:nvPr/>
            </p:nvSpPr>
            <p:spPr>
              <a:xfrm>
                <a:off x="1351080" y="304956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74" name="Oval 16"/>
              <p:cNvSpPr/>
              <p:nvPr/>
            </p:nvSpPr>
            <p:spPr>
              <a:xfrm>
                <a:off x="1349280" y="3263760"/>
                <a:ext cx="233280" cy="2336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28"/>
          <p:cNvGrpSpPr/>
          <p:nvPr/>
        </p:nvGrpSpPr>
        <p:grpSpPr>
          <a:xfrm>
            <a:off x="2602080" y="2444760"/>
            <a:ext cx="1098360" cy="799920"/>
            <a:chOff x="2602080" y="2444760"/>
            <a:chExt cx="1098360" cy="799920"/>
          </a:xfrm>
        </p:grpSpPr>
        <p:grpSp>
          <p:nvGrpSpPr>
            <p:cNvPr id="76" name="Group 21"/>
            <p:cNvGrpSpPr/>
            <p:nvPr/>
          </p:nvGrpSpPr>
          <p:grpSpPr>
            <a:xfrm>
              <a:off x="2901960" y="2444760"/>
              <a:ext cx="465120" cy="799920"/>
              <a:chOff x="2901960" y="2444760"/>
              <a:chExt cx="465120" cy="799920"/>
            </a:xfrm>
          </p:grpSpPr>
          <p:sp>
            <p:nvSpPr>
              <p:cNvPr id="77" name="Oval 19"/>
              <p:cNvSpPr/>
              <p:nvPr/>
            </p:nvSpPr>
            <p:spPr>
              <a:xfrm>
                <a:off x="2903400" y="244476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78" name="Oval 20"/>
              <p:cNvSpPr/>
              <p:nvPr/>
            </p:nvSpPr>
            <p:spPr>
              <a:xfrm>
                <a:off x="2901960" y="2781360"/>
                <a:ext cx="46368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24"/>
            <p:cNvGrpSpPr/>
            <p:nvPr/>
          </p:nvGrpSpPr>
          <p:grpSpPr>
            <a:xfrm>
              <a:off x="3465360" y="2630520"/>
              <a:ext cx="235080" cy="447480"/>
              <a:chOff x="3465360" y="2630520"/>
              <a:chExt cx="235080" cy="447480"/>
            </a:xfrm>
          </p:grpSpPr>
          <p:sp>
            <p:nvSpPr>
              <p:cNvPr id="80" name="Oval 22"/>
              <p:cNvSpPr/>
              <p:nvPr/>
            </p:nvSpPr>
            <p:spPr>
              <a:xfrm>
                <a:off x="3467160" y="263052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81" name="Oval 23"/>
              <p:cNvSpPr/>
              <p:nvPr/>
            </p:nvSpPr>
            <p:spPr>
              <a:xfrm>
                <a:off x="3465360" y="2844720"/>
                <a:ext cx="23364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27"/>
            <p:cNvGrpSpPr/>
            <p:nvPr/>
          </p:nvGrpSpPr>
          <p:grpSpPr>
            <a:xfrm>
              <a:off x="2602080" y="2630520"/>
              <a:ext cx="234720" cy="447480"/>
              <a:chOff x="2602080" y="2630520"/>
              <a:chExt cx="234720" cy="447480"/>
            </a:xfrm>
          </p:grpSpPr>
          <p:sp>
            <p:nvSpPr>
              <p:cNvPr id="83" name="Oval 25"/>
              <p:cNvSpPr/>
              <p:nvPr/>
            </p:nvSpPr>
            <p:spPr>
              <a:xfrm>
                <a:off x="2603520" y="263052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84" name="Oval 26"/>
              <p:cNvSpPr/>
              <p:nvPr/>
            </p:nvSpPr>
            <p:spPr>
              <a:xfrm>
                <a:off x="2602080" y="284472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38"/>
          <p:cNvGrpSpPr/>
          <p:nvPr/>
        </p:nvGrpSpPr>
        <p:grpSpPr>
          <a:xfrm>
            <a:off x="3487680" y="1692360"/>
            <a:ext cx="998640" cy="799920"/>
            <a:chOff x="3487680" y="1692360"/>
            <a:chExt cx="998640" cy="799920"/>
          </a:xfrm>
        </p:grpSpPr>
        <p:grpSp>
          <p:nvGrpSpPr>
            <p:cNvPr id="86" name="Group 31"/>
            <p:cNvGrpSpPr/>
            <p:nvPr/>
          </p:nvGrpSpPr>
          <p:grpSpPr>
            <a:xfrm>
              <a:off x="3754440" y="1692360"/>
              <a:ext cx="465120" cy="799920"/>
              <a:chOff x="3754440" y="1692360"/>
              <a:chExt cx="465120" cy="799920"/>
            </a:xfrm>
          </p:grpSpPr>
          <p:sp>
            <p:nvSpPr>
              <p:cNvPr id="87" name="Oval 29"/>
              <p:cNvSpPr/>
              <p:nvPr/>
            </p:nvSpPr>
            <p:spPr>
              <a:xfrm>
                <a:off x="3755880" y="1692360"/>
                <a:ext cx="46368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88" name="Oval 30"/>
              <p:cNvSpPr/>
              <p:nvPr/>
            </p:nvSpPr>
            <p:spPr>
              <a:xfrm>
                <a:off x="3754440" y="2028960"/>
                <a:ext cx="46368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34"/>
            <p:cNvGrpSpPr/>
            <p:nvPr/>
          </p:nvGrpSpPr>
          <p:grpSpPr>
            <a:xfrm>
              <a:off x="4251240" y="1827360"/>
              <a:ext cx="235080" cy="447480"/>
              <a:chOff x="4251240" y="1827360"/>
              <a:chExt cx="235080" cy="447480"/>
            </a:xfrm>
          </p:grpSpPr>
          <p:sp>
            <p:nvSpPr>
              <p:cNvPr id="90" name="Oval 32"/>
              <p:cNvSpPr/>
              <p:nvPr/>
            </p:nvSpPr>
            <p:spPr>
              <a:xfrm>
                <a:off x="4253040" y="182736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91" name="Oval 33"/>
              <p:cNvSpPr/>
              <p:nvPr/>
            </p:nvSpPr>
            <p:spPr>
              <a:xfrm>
                <a:off x="4251240" y="204156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37"/>
            <p:cNvGrpSpPr/>
            <p:nvPr/>
          </p:nvGrpSpPr>
          <p:grpSpPr>
            <a:xfrm>
              <a:off x="3487680" y="1895400"/>
              <a:ext cx="235080" cy="447840"/>
              <a:chOff x="3487680" y="1895400"/>
              <a:chExt cx="235080" cy="447840"/>
            </a:xfrm>
          </p:grpSpPr>
          <p:sp>
            <p:nvSpPr>
              <p:cNvPr id="93" name="Oval 35"/>
              <p:cNvSpPr/>
              <p:nvPr/>
            </p:nvSpPr>
            <p:spPr>
              <a:xfrm>
                <a:off x="3489480" y="189540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94" name="Oval 36"/>
              <p:cNvSpPr/>
              <p:nvPr/>
            </p:nvSpPr>
            <p:spPr>
              <a:xfrm>
                <a:off x="3487680" y="210996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48"/>
          <p:cNvGrpSpPr/>
          <p:nvPr/>
        </p:nvGrpSpPr>
        <p:grpSpPr>
          <a:xfrm>
            <a:off x="4573440" y="974880"/>
            <a:ext cx="831960" cy="799920"/>
            <a:chOff x="4573440" y="974880"/>
            <a:chExt cx="831960" cy="799920"/>
          </a:xfrm>
        </p:grpSpPr>
        <p:grpSp>
          <p:nvGrpSpPr>
            <p:cNvPr id="96" name="Group 41"/>
            <p:cNvGrpSpPr/>
            <p:nvPr/>
          </p:nvGrpSpPr>
          <p:grpSpPr>
            <a:xfrm>
              <a:off x="4773600" y="974880"/>
              <a:ext cx="465120" cy="799920"/>
              <a:chOff x="4773600" y="974880"/>
              <a:chExt cx="465120" cy="799920"/>
            </a:xfrm>
          </p:grpSpPr>
          <p:sp>
            <p:nvSpPr>
              <p:cNvPr id="97" name="Oval 39"/>
              <p:cNvSpPr/>
              <p:nvPr/>
            </p:nvSpPr>
            <p:spPr>
              <a:xfrm>
                <a:off x="4775040" y="974880"/>
                <a:ext cx="46368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98" name="Oval 40"/>
              <p:cNvSpPr/>
              <p:nvPr/>
            </p:nvSpPr>
            <p:spPr>
              <a:xfrm>
                <a:off x="4773600" y="131112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44"/>
            <p:cNvGrpSpPr/>
            <p:nvPr/>
          </p:nvGrpSpPr>
          <p:grpSpPr>
            <a:xfrm>
              <a:off x="5170320" y="1143000"/>
              <a:ext cx="235080" cy="447840"/>
              <a:chOff x="5170320" y="1143000"/>
              <a:chExt cx="235080" cy="447840"/>
            </a:xfrm>
          </p:grpSpPr>
          <p:sp>
            <p:nvSpPr>
              <p:cNvPr id="100" name="Oval 42"/>
              <p:cNvSpPr/>
              <p:nvPr/>
            </p:nvSpPr>
            <p:spPr>
              <a:xfrm>
                <a:off x="5172120" y="114300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101" name="Oval 43"/>
              <p:cNvSpPr/>
              <p:nvPr/>
            </p:nvSpPr>
            <p:spPr>
              <a:xfrm>
                <a:off x="5170320" y="1357200"/>
                <a:ext cx="233640" cy="2336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47"/>
            <p:cNvGrpSpPr/>
            <p:nvPr/>
          </p:nvGrpSpPr>
          <p:grpSpPr>
            <a:xfrm>
              <a:off x="4573440" y="1128600"/>
              <a:ext cx="235080" cy="447840"/>
              <a:chOff x="4573440" y="1128600"/>
              <a:chExt cx="235080" cy="447840"/>
            </a:xfrm>
          </p:grpSpPr>
          <p:sp>
            <p:nvSpPr>
              <p:cNvPr id="103" name="Oval 45"/>
              <p:cNvSpPr/>
              <p:nvPr/>
            </p:nvSpPr>
            <p:spPr>
              <a:xfrm>
                <a:off x="4575240" y="1128600"/>
                <a:ext cx="233280" cy="2336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104" name="Oval 46"/>
              <p:cNvSpPr/>
              <p:nvPr/>
            </p:nvSpPr>
            <p:spPr>
              <a:xfrm>
                <a:off x="4573440" y="1343160"/>
                <a:ext cx="23364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59"/>
          <p:cNvGrpSpPr/>
          <p:nvPr/>
        </p:nvGrpSpPr>
        <p:grpSpPr>
          <a:xfrm>
            <a:off x="6132600" y="1611360"/>
            <a:ext cx="801720" cy="938160"/>
            <a:chOff x="6132600" y="1611360"/>
            <a:chExt cx="801720" cy="938160"/>
          </a:xfrm>
        </p:grpSpPr>
        <p:grpSp>
          <p:nvGrpSpPr>
            <p:cNvPr id="106" name="Group 53"/>
            <p:cNvGrpSpPr/>
            <p:nvPr/>
          </p:nvGrpSpPr>
          <p:grpSpPr>
            <a:xfrm>
              <a:off x="6132600" y="1611360"/>
              <a:ext cx="801720" cy="463680"/>
              <a:chOff x="6132600" y="1611360"/>
              <a:chExt cx="801720" cy="463680"/>
            </a:xfrm>
          </p:grpSpPr>
          <p:sp>
            <p:nvSpPr>
              <p:cNvPr id="107" name="Oval 49"/>
              <p:cNvSpPr/>
              <p:nvPr/>
            </p:nvSpPr>
            <p:spPr>
              <a:xfrm>
                <a:off x="6300720" y="161136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08" name="Group 52"/>
              <p:cNvGrpSpPr/>
              <p:nvPr/>
            </p:nvGrpSpPr>
            <p:grpSpPr>
              <a:xfrm>
                <a:off x="6132600" y="1822320"/>
                <a:ext cx="801720" cy="233640"/>
                <a:chOff x="6132600" y="1822320"/>
                <a:chExt cx="801720" cy="233640"/>
              </a:xfrm>
            </p:grpSpPr>
            <p:sp>
              <p:nvSpPr>
                <p:cNvPr id="109" name="Oval 50"/>
                <p:cNvSpPr/>
                <p:nvPr/>
              </p:nvSpPr>
              <p:spPr>
                <a:xfrm>
                  <a:off x="6700680" y="1822320"/>
                  <a:ext cx="23364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10" name="Oval 51"/>
                <p:cNvSpPr/>
                <p:nvPr/>
              </p:nvSpPr>
              <p:spPr>
                <a:xfrm>
                  <a:off x="6132600" y="182232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Group 58"/>
            <p:cNvGrpSpPr/>
            <p:nvPr/>
          </p:nvGrpSpPr>
          <p:grpSpPr>
            <a:xfrm>
              <a:off x="6132600" y="2085840"/>
              <a:ext cx="801720" cy="463680"/>
              <a:chOff x="6132600" y="2085840"/>
              <a:chExt cx="801720" cy="463680"/>
            </a:xfrm>
          </p:grpSpPr>
          <p:sp>
            <p:nvSpPr>
              <p:cNvPr id="112" name="Oval 54"/>
              <p:cNvSpPr/>
              <p:nvPr/>
            </p:nvSpPr>
            <p:spPr>
              <a:xfrm>
                <a:off x="6300720" y="208584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13" name="Group 57"/>
              <p:cNvGrpSpPr/>
              <p:nvPr/>
            </p:nvGrpSpPr>
            <p:grpSpPr>
              <a:xfrm>
                <a:off x="6132600" y="2104920"/>
                <a:ext cx="801720" cy="233640"/>
                <a:chOff x="6132600" y="2104920"/>
                <a:chExt cx="801720" cy="233640"/>
              </a:xfrm>
            </p:grpSpPr>
            <p:sp>
              <p:nvSpPr>
                <p:cNvPr id="114" name="Oval 55"/>
                <p:cNvSpPr/>
                <p:nvPr/>
              </p:nvSpPr>
              <p:spPr>
                <a:xfrm>
                  <a:off x="6700680" y="2104920"/>
                  <a:ext cx="23364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56"/>
                <p:cNvSpPr/>
                <p:nvPr/>
              </p:nvSpPr>
              <p:spPr>
                <a:xfrm>
                  <a:off x="6132600" y="210492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" name="Group 70"/>
          <p:cNvGrpSpPr/>
          <p:nvPr/>
        </p:nvGrpSpPr>
        <p:grpSpPr>
          <a:xfrm>
            <a:off x="6667560" y="3114720"/>
            <a:ext cx="801720" cy="988920"/>
            <a:chOff x="6667560" y="3114720"/>
            <a:chExt cx="801720" cy="988920"/>
          </a:xfrm>
        </p:grpSpPr>
        <p:grpSp>
          <p:nvGrpSpPr>
            <p:cNvPr id="117" name="Group 64"/>
            <p:cNvGrpSpPr/>
            <p:nvPr/>
          </p:nvGrpSpPr>
          <p:grpSpPr>
            <a:xfrm>
              <a:off x="6667560" y="3114720"/>
              <a:ext cx="801720" cy="463680"/>
              <a:chOff x="6667560" y="3114720"/>
              <a:chExt cx="801720" cy="463680"/>
            </a:xfrm>
          </p:grpSpPr>
          <p:sp>
            <p:nvSpPr>
              <p:cNvPr id="118" name="Oval 60"/>
              <p:cNvSpPr/>
              <p:nvPr/>
            </p:nvSpPr>
            <p:spPr>
              <a:xfrm>
                <a:off x="6835680" y="311472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19" name="Group 63"/>
              <p:cNvGrpSpPr/>
              <p:nvPr/>
            </p:nvGrpSpPr>
            <p:grpSpPr>
              <a:xfrm>
                <a:off x="6667560" y="3325680"/>
                <a:ext cx="801720" cy="233640"/>
                <a:chOff x="6667560" y="3325680"/>
                <a:chExt cx="801720" cy="233640"/>
              </a:xfrm>
            </p:grpSpPr>
            <p:sp>
              <p:nvSpPr>
                <p:cNvPr id="120" name="Oval 61"/>
                <p:cNvSpPr/>
                <p:nvPr/>
              </p:nvSpPr>
              <p:spPr>
                <a:xfrm>
                  <a:off x="7236000" y="332568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21" name="Oval 62"/>
                <p:cNvSpPr/>
                <p:nvPr/>
              </p:nvSpPr>
              <p:spPr>
                <a:xfrm>
                  <a:off x="6667560" y="332568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Group 69"/>
            <p:cNvGrpSpPr/>
            <p:nvPr/>
          </p:nvGrpSpPr>
          <p:grpSpPr>
            <a:xfrm>
              <a:off x="6667560" y="3639960"/>
              <a:ext cx="801720" cy="463680"/>
              <a:chOff x="6667560" y="3639960"/>
              <a:chExt cx="801720" cy="463680"/>
            </a:xfrm>
          </p:grpSpPr>
          <p:sp>
            <p:nvSpPr>
              <p:cNvPr id="123" name="Oval 65"/>
              <p:cNvSpPr/>
              <p:nvPr/>
            </p:nvSpPr>
            <p:spPr>
              <a:xfrm>
                <a:off x="6835680" y="363996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24" name="Group 68"/>
              <p:cNvGrpSpPr/>
              <p:nvPr/>
            </p:nvGrpSpPr>
            <p:grpSpPr>
              <a:xfrm>
                <a:off x="6667560" y="3659040"/>
                <a:ext cx="801720" cy="233640"/>
                <a:chOff x="6667560" y="3659040"/>
                <a:chExt cx="801720" cy="233640"/>
              </a:xfrm>
            </p:grpSpPr>
            <p:sp>
              <p:nvSpPr>
                <p:cNvPr id="125" name="Oval 66"/>
                <p:cNvSpPr/>
                <p:nvPr/>
              </p:nvSpPr>
              <p:spPr>
                <a:xfrm>
                  <a:off x="7236000" y="365904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26" name="Oval 67"/>
                <p:cNvSpPr/>
                <p:nvPr/>
              </p:nvSpPr>
              <p:spPr>
                <a:xfrm>
                  <a:off x="6667560" y="365904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" name="Group 81"/>
          <p:cNvGrpSpPr/>
          <p:nvPr/>
        </p:nvGrpSpPr>
        <p:grpSpPr>
          <a:xfrm>
            <a:off x="7232760" y="4451400"/>
            <a:ext cx="1298520" cy="907920"/>
            <a:chOff x="7232760" y="4451400"/>
            <a:chExt cx="1298520" cy="907920"/>
          </a:xfrm>
        </p:grpSpPr>
        <p:grpSp>
          <p:nvGrpSpPr>
            <p:cNvPr id="128" name="Group 75"/>
            <p:cNvGrpSpPr/>
            <p:nvPr/>
          </p:nvGrpSpPr>
          <p:grpSpPr>
            <a:xfrm>
              <a:off x="8067600" y="4451400"/>
              <a:ext cx="463680" cy="801720"/>
              <a:chOff x="8067600" y="4451400"/>
              <a:chExt cx="463680" cy="801720"/>
            </a:xfrm>
          </p:grpSpPr>
          <p:sp>
            <p:nvSpPr>
              <p:cNvPr id="129" name="Oval 71"/>
              <p:cNvSpPr/>
              <p:nvPr/>
            </p:nvSpPr>
            <p:spPr>
              <a:xfrm>
                <a:off x="8067600" y="461952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30" name="Group 74"/>
              <p:cNvGrpSpPr/>
              <p:nvPr/>
            </p:nvGrpSpPr>
            <p:grpSpPr>
              <a:xfrm>
                <a:off x="8278920" y="4451400"/>
                <a:ext cx="233280" cy="801720"/>
                <a:chOff x="8278920" y="4451400"/>
                <a:chExt cx="233280" cy="801720"/>
              </a:xfrm>
            </p:grpSpPr>
            <p:sp>
              <p:nvSpPr>
                <p:cNvPr id="131" name="Oval 72"/>
                <p:cNvSpPr/>
                <p:nvPr/>
              </p:nvSpPr>
              <p:spPr>
                <a:xfrm>
                  <a:off x="8278920" y="5019840"/>
                  <a:ext cx="233280" cy="2332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73"/>
                <p:cNvSpPr/>
                <p:nvPr/>
              </p:nvSpPr>
              <p:spPr>
                <a:xfrm>
                  <a:off x="8278920" y="4451400"/>
                  <a:ext cx="233280" cy="2332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80"/>
            <p:cNvGrpSpPr/>
            <p:nvPr/>
          </p:nvGrpSpPr>
          <p:grpSpPr>
            <a:xfrm>
              <a:off x="7232760" y="4557600"/>
              <a:ext cx="463320" cy="801720"/>
              <a:chOff x="7232760" y="4557600"/>
              <a:chExt cx="463320" cy="801720"/>
            </a:xfrm>
          </p:grpSpPr>
          <p:sp>
            <p:nvSpPr>
              <p:cNvPr id="134" name="Oval 76"/>
              <p:cNvSpPr/>
              <p:nvPr/>
            </p:nvSpPr>
            <p:spPr>
              <a:xfrm>
                <a:off x="7232760" y="4726080"/>
                <a:ext cx="46332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35" name="Group 79"/>
              <p:cNvGrpSpPr/>
              <p:nvPr/>
            </p:nvGrpSpPr>
            <p:grpSpPr>
              <a:xfrm>
                <a:off x="7443720" y="4557600"/>
                <a:ext cx="233280" cy="801720"/>
                <a:chOff x="7443720" y="4557600"/>
                <a:chExt cx="233280" cy="801720"/>
              </a:xfrm>
            </p:grpSpPr>
            <p:sp>
              <p:nvSpPr>
                <p:cNvPr id="136" name="Oval 77"/>
                <p:cNvSpPr/>
                <p:nvPr/>
              </p:nvSpPr>
              <p:spPr>
                <a:xfrm>
                  <a:off x="7443720" y="5126040"/>
                  <a:ext cx="233280" cy="2332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78"/>
                <p:cNvSpPr/>
                <p:nvPr/>
              </p:nvSpPr>
              <p:spPr>
                <a:xfrm>
                  <a:off x="7443720" y="455760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Concent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dd reactants (or increase their concentr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rward reaction will speed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roduct will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ifts to the r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Concent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dd products (or increase their concentr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verse reaction will speed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reactant will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ifts to the lef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Concent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remove products (or decrease their concentr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verse reaction will slow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roduct will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reverse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ifts to the r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Concent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remove reactants (or decrease their concentr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rward reaction will slow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reactant will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ifts to the lef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control how much yield you get from a chemical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Temperat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either require or release h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thermic reactions go faster at higher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thermic go faster at lower tempera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versible reactions will be exothermic one way and endothermic the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Temperat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raise the temperature the reaction proceeds in the endothermic dir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lower the temperature the reaction proceeds in the exothermic dir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+ hea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 at high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+ hea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 at low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(l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s) + 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4"/>
          <p:cNvGrpSpPr/>
          <p:nvPr/>
        </p:nvGrpSpPr>
        <p:grpSpPr>
          <a:xfrm>
            <a:off x="2290680" y="4711680"/>
            <a:ext cx="932040" cy="329760"/>
            <a:chOff x="2290680" y="4711680"/>
            <a:chExt cx="932040" cy="329760"/>
          </a:xfrm>
        </p:grpSpPr>
        <p:sp>
          <p:nvSpPr>
            <p:cNvPr id="524" name="Freeform 5"/>
            <p:cNvSpPr/>
            <p:nvPr/>
          </p:nvSpPr>
          <p:spPr>
            <a:xfrm>
              <a:off x="2290680" y="4711680"/>
              <a:ext cx="932040" cy="11844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2290680" y="4923000"/>
              <a:ext cx="932040" cy="11844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es in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pressure increases the reaction  will shift in the direction of the least g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pressure to  the side with the most g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ree Ques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collisions and activ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le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Mechanism – ste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ree Ques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it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ly i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 is negative – exother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Or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 is positive – more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uaranteed if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Products – Reac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Or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G =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 -T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ree Ques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orward and reverse rates are eq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oncentration is 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quilibrium Const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One for each 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Châtelier’s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087560" y="509760"/>
            <a:ext cx="7607160" cy="5397480"/>
          </a:xfrm>
          <a:prstGeom prst="rect">
            <a:avLst/>
          </a:prstGeom>
          <a:solidFill>
            <a:srgbClr val="b3b9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 rot="16200000">
            <a:off x="75600" y="388620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 flipV="1">
            <a:off x="838080" y="182844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886120" y="5853240"/>
            <a:ext cx="449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coordina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Freeform 6"/>
          <p:cNvSpPr/>
          <p:nvPr/>
        </p:nvSpPr>
        <p:spPr>
          <a:xfrm>
            <a:off x="1373040" y="1692360"/>
            <a:ext cx="7164360" cy="3519360"/>
          </a:xfrm>
          <a:prstGeom prst="pie">
            <a:avLst/>
          </a:prstGeom>
          <a:noFill/>
          <a:ln cap="rnd"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144440" y="3859200"/>
            <a:ext cx="231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6962760" y="5208480"/>
            <a:ext cx="216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45" name="Group 18"/>
          <p:cNvGrpSpPr/>
          <p:nvPr/>
        </p:nvGrpSpPr>
        <p:grpSpPr>
          <a:xfrm>
            <a:off x="4591080" y="808200"/>
            <a:ext cx="831960" cy="799920"/>
            <a:chOff x="4591080" y="808200"/>
            <a:chExt cx="831960" cy="799920"/>
          </a:xfrm>
        </p:grpSpPr>
        <p:grpSp>
          <p:nvGrpSpPr>
            <p:cNvPr id="146" name="Group 11"/>
            <p:cNvGrpSpPr/>
            <p:nvPr/>
          </p:nvGrpSpPr>
          <p:grpSpPr>
            <a:xfrm>
              <a:off x="4791240" y="808200"/>
              <a:ext cx="465120" cy="799920"/>
              <a:chOff x="4791240" y="808200"/>
              <a:chExt cx="465120" cy="799920"/>
            </a:xfrm>
          </p:grpSpPr>
          <p:sp>
            <p:nvSpPr>
              <p:cNvPr id="147" name="Oval 9"/>
              <p:cNvSpPr/>
              <p:nvPr/>
            </p:nvSpPr>
            <p:spPr>
              <a:xfrm>
                <a:off x="4792680" y="808200"/>
                <a:ext cx="46368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148" name="Oval 10"/>
              <p:cNvSpPr/>
              <p:nvPr/>
            </p:nvSpPr>
            <p:spPr>
              <a:xfrm>
                <a:off x="4791240" y="1144440"/>
                <a:ext cx="46332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4"/>
            <p:cNvGrpSpPr/>
            <p:nvPr/>
          </p:nvGrpSpPr>
          <p:grpSpPr>
            <a:xfrm>
              <a:off x="5187960" y="976320"/>
              <a:ext cx="235080" cy="447840"/>
              <a:chOff x="5187960" y="976320"/>
              <a:chExt cx="235080" cy="447840"/>
            </a:xfrm>
          </p:grpSpPr>
          <p:sp>
            <p:nvSpPr>
              <p:cNvPr id="150" name="Oval 12"/>
              <p:cNvSpPr/>
              <p:nvPr/>
            </p:nvSpPr>
            <p:spPr>
              <a:xfrm>
                <a:off x="5189400" y="976320"/>
                <a:ext cx="23364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151" name="Oval 13"/>
              <p:cNvSpPr/>
              <p:nvPr/>
            </p:nvSpPr>
            <p:spPr>
              <a:xfrm>
                <a:off x="5187960" y="1190520"/>
                <a:ext cx="233280" cy="2336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7"/>
            <p:cNvGrpSpPr/>
            <p:nvPr/>
          </p:nvGrpSpPr>
          <p:grpSpPr>
            <a:xfrm>
              <a:off x="4591080" y="961920"/>
              <a:ext cx="235080" cy="447840"/>
              <a:chOff x="4591080" y="961920"/>
              <a:chExt cx="235080" cy="447840"/>
            </a:xfrm>
          </p:grpSpPr>
          <p:sp>
            <p:nvSpPr>
              <p:cNvPr id="153" name="Oval 15"/>
              <p:cNvSpPr/>
              <p:nvPr/>
            </p:nvSpPr>
            <p:spPr>
              <a:xfrm>
                <a:off x="4592520" y="961920"/>
                <a:ext cx="233640" cy="2336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154" name="Oval 16"/>
              <p:cNvSpPr/>
              <p:nvPr/>
            </p:nvSpPr>
            <p:spPr>
              <a:xfrm>
                <a:off x="4591080" y="117648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Line 19"/>
          <p:cNvSpPr/>
          <p:nvPr/>
        </p:nvSpPr>
        <p:spPr>
          <a:xfrm>
            <a:off x="4664160" y="3828960"/>
            <a:ext cx="72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5002200" y="1692360"/>
            <a:ext cx="0" cy="212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5122800" y="1722600"/>
            <a:ext cx="3751200" cy="204228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ctivation Energy - Minimum energy to make the reaction happen – how har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50956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rmodynamic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a reaction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s tend react to achieve the lowest energy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hemical reactions are exotherm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work for things like ice mel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ce cube must absorb heat to melt, but it melts  anyway.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040" y="60480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trop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gree of randomness or dis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– number of ways things can be arr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Law of Thermodynamics - The energy of the universe is cons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e Second Law of Thermodynamic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entropy of the universe increases in any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a box of mar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your room for a we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trop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1530360"/>
            <a:ext cx="225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ropy  of  a solid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3294000" y="1530360"/>
            <a:ext cx="2178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ropy  of  a liquid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6665760" y="1835280"/>
            <a:ext cx="22068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ropy  of a ga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44" name="Group 8"/>
          <p:cNvGrpSpPr/>
          <p:nvPr/>
        </p:nvGrpSpPr>
        <p:grpSpPr>
          <a:xfrm>
            <a:off x="2314440" y="1604880"/>
            <a:ext cx="914400" cy="1771560"/>
            <a:chOff x="2314440" y="1604880"/>
            <a:chExt cx="914400" cy="1771560"/>
          </a:xfrm>
        </p:grpSpPr>
        <p:sp>
          <p:nvSpPr>
            <p:cNvPr id="545" name="Line 6"/>
            <p:cNvSpPr/>
            <p:nvPr/>
          </p:nvSpPr>
          <p:spPr>
            <a:xfrm flipH="1">
              <a:off x="2314440" y="1604880"/>
              <a:ext cx="914400" cy="9144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6" name="Line 7"/>
            <p:cNvSpPr/>
            <p:nvPr/>
          </p:nvSpPr>
          <p:spPr>
            <a:xfrm>
              <a:off x="2314440" y="2462040"/>
              <a:ext cx="914400" cy="9144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47" name="Group 11"/>
          <p:cNvGrpSpPr/>
          <p:nvPr/>
        </p:nvGrpSpPr>
        <p:grpSpPr>
          <a:xfrm>
            <a:off x="5438880" y="1604880"/>
            <a:ext cx="914400" cy="1771560"/>
            <a:chOff x="5438880" y="1604880"/>
            <a:chExt cx="914400" cy="1771560"/>
          </a:xfrm>
        </p:grpSpPr>
        <p:sp>
          <p:nvSpPr>
            <p:cNvPr id="548" name="Line 9"/>
            <p:cNvSpPr/>
            <p:nvPr/>
          </p:nvSpPr>
          <p:spPr>
            <a:xfrm flipH="1">
              <a:off x="5438880" y="1604880"/>
              <a:ext cx="914400" cy="9144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9" name="Line 10"/>
            <p:cNvSpPr/>
            <p:nvPr/>
          </p:nvSpPr>
          <p:spPr>
            <a:xfrm>
              <a:off x="5438880" y="2462040"/>
              <a:ext cx="914400" cy="9144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50" name="Group 14"/>
          <p:cNvGrpSpPr/>
          <p:nvPr/>
        </p:nvGrpSpPr>
        <p:grpSpPr>
          <a:xfrm>
            <a:off x="6024600" y="1604880"/>
            <a:ext cx="914400" cy="1771560"/>
            <a:chOff x="6024600" y="1604880"/>
            <a:chExt cx="914400" cy="1771560"/>
          </a:xfrm>
        </p:grpSpPr>
        <p:sp>
          <p:nvSpPr>
            <p:cNvPr id="551" name="Line 12"/>
            <p:cNvSpPr/>
            <p:nvPr/>
          </p:nvSpPr>
          <p:spPr>
            <a:xfrm flipH="1">
              <a:off x="6024600" y="1604880"/>
              <a:ext cx="914400" cy="9144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2" name="Line 13"/>
            <p:cNvSpPr/>
            <p:nvPr/>
          </p:nvSpPr>
          <p:spPr>
            <a:xfrm>
              <a:off x="6024600" y="2462040"/>
              <a:ext cx="914400" cy="9144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160" y="3643200"/>
            <a:ext cx="8001000" cy="26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lid has an orderly arrang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quid has the molecules next to each other but isn’t ord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as has molecules moving all over the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8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tropy increases when...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of solids produce gases or liquids, or liquids produce g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ubstance is divided into parts -so reactions with more  products than reactants have an increase in entr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erature is raised -because the random motion of the molecules is incre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ubstance is diss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tropy calcula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ables of standard entropy (pg 40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entropy is the entropy at 25ºC  and 1 atm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breviated Sº, measure in J/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nge in entropy for a reaction i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= Sº(Products)-Sº(Reactan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 for this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2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33160" y="595440"/>
            <a:ext cx="8001000" cy="57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 for this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2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º = 186.2 J/K-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º = 205.0 J/K-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º= 213.6 J/K-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 Sº = 188.7 J/K-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50956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ontane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the reaction happen, and how can we make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8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ontaneous reac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that will hap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spontaneous reactions do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if they do happen, we can’t say how f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actors infl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halpy (heat) and entropy(disord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32040" y="563400"/>
            <a:ext cx="716256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wo Factor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3320" y="1123920"/>
            <a:ext cx="8235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thermic reactions tend to be spontan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where the entropy of the products is greater than reactants tend to be spontan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nge with positiv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nd negativ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is always spontan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nge with negativ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nd positiv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is never spontan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133640" y="495360"/>
            <a:ext cx="7607160" cy="5397480"/>
          </a:xfrm>
          <a:prstGeom prst="rect">
            <a:avLst/>
          </a:prstGeom>
          <a:solidFill>
            <a:srgbClr val="b3b9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 rot="16200000">
            <a:off x="75600" y="388620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838080" y="182844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886120" y="5853240"/>
            <a:ext cx="449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coordina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Freeform 6"/>
          <p:cNvSpPr/>
          <p:nvPr/>
        </p:nvSpPr>
        <p:spPr>
          <a:xfrm>
            <a:off x="1373040" y="1692360"/>
            <a:ext cx="7164360" cy="3519360"/>
          </a:xfrm>
          <a:prstGeom prst="pie">
            <a:avLst/>
          </a:prstGeom>
          <a:noFill/>
          <a:ln cap="rnd"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144440" y="3859200"/>
            <a:ext cx="231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962760" y="5208480"/>
            <a:ext cx="216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5" name="Group 11"/>
          <p:cNvGrpSpPr/>
          <p:nvPr/>
        </p:nvGrpSpPr>
        <p:grpSpPr>
          <a:xfrm>
            <a:off x="4791240" y="808200"/>
            <a:ext cx="465120" cy="799920"/>
            <a:chOff x="4791240" y="808200"/>
            <a:chExt cx="465120" cy="799920"/>
          </a:xfrm>
        </p:grpSpPr>
        <p:sp>
          <p:nvSpPr>
            <p:cNvPr id="166" name="Oval 9"/>
            <p:cNvSpPr/>
            <p:nvPr/>
          </p:nvSpPr>
          <p:spPr>
            <a:xfrm>
              <a:off x="4792680" y="808200"/>
              <a:ext cx="463680" cy="46332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4791240" y="1144440"/>
              <a:ext cx="463320" cy="46368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68" name="Group 14"/>
          <p:cNvGrpSpPr/>
          <p:nvPr/>
        </p:nvGrpSpPr>
        <p:grpSpPr>
          <a:xfrm>
            <a:off x="5187960" y="976320"/>
            <a:ext cx="235080" cy="447840"/>
            <a:chOff x="5187960" y="976320"/>
            <a:chExt cx="235080" cy="447840"/>
          </a:xfrm>
        </p:grpSpPr>
        <p:sp>
          <p:nvSpPr>
            <p:cNvPr id="169" name="Oval 12"/>
            <p:cNvSpPr/>
            <p:nvPr/>
          </p:nvSpPr>
          <p:spPr>
            <a:xfrm>
              <a:off x="5189400" y="976320"/>
              <a:ext cx="233640" cy="2332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5187960" y="1190520"/>
              <a:ext cx="233280" cy="2336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71" name="Group 17"/>
          <p:cNvGrpSpPr/>
          <p:nvPr/>
        </p:nvGrpSpPr>
        <p:grpSpPr>
          <a:xfrm>
            <a:off x="4591080" y="961920"/>
            <a:ext cx="235080" cy="447840"/>
            <a:chOff x="4591080" y="961920"/>
            <a:chExt cx="235080" cy="447840"/>
          </a:xfrm>
        </p:grpSpPr>
        <p:sp>
          <p:nvSpPr>
            <p:cNvPr id="172" name="Oval 15"/>
            <p:cNvSpPr/>
            <p:nvPr/>
          </p:nvSpPr>
          <p:spPr>
            <a:xfrm>
              <a:off x="4592520" y="961920"/>
              <a:ext cx="233640" cy="2336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4591080" y="1176480"/>
              <a:ext cx="233280" cy="2332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74" name="Rectangle 18"/>
          <p:cNvSpPr/>
          <p:nvPr/>
        </p:nvSpPr>
        <p:spPr>
          <a:xfrm>
            <a:off x="5721480" y="631800"/>
            <a:ext cx="30747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ed Complex or Transition Sta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ther Possibiliti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affects entr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r temperature, higher entr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n exothermic reaction with a decrease in entropy (like rusting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ous at low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spontaneous at high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halpy dri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ther Possibiliti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dothermic reaction with an increase in entropy like melting 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ous at high temperat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spontaneous at low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opy dri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free to do work is the change in Gibbs free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º - 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 (T must be in Kelv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pontaneous reactions release free energ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&lt;0 for a spontaneous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990720" y="528480"/>
            <a:ext cx="716256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G=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-T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1888920" y="1225440"/>
            <a:ext cx="7275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126440" y="1225440"/>
            <a:ext cx="7506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4176000" y="1149480"/>
            <a:ext cx="2803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pontaneous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5" name="Line 6"/>
          <p:cNvSpPr/>
          <p:nvPr/>
        </p:nvSpPr>
        <p:spPr>
          <a:xfrm>
            <a:off x="609480" y="167652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279080" y="171144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7" name="Group 47"/>
          <p:cNvGrpSpPr/>
          <p:nvPr/>
        </p:nvGrpSpPr>
        <p:grpSpPr>
          <a:xfrm>
            <a:off x="2117520" y="1711440"/>
            <a:ext cx="1273320" cy="695520"/>
            <a:chOff x="2117520" y="1711440"/>
            <a:chExt cx="1273320" cy="695520"/>
          </a:xfrm>
        </p:grpSpPr>
        <p:sp>
          <p:nvSpPr>
            <p:cNvPr id="578" name="Rectangle 7"/>
            <p:cNvSpPr/>
            <p:nvPr/>
          </p:nvSpPr>
          <p:spPr>
            <a:xfrm>
              <a:off x="2117520" y="1711440"/>
              <a:ext cx="3708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>
              <a:off x="2879640" y="1711440"/>
              <a:ext cx="5112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80" name="Group 13"/>
          <p:cNvGrpSpPr/>
          <p:nvPr/>
        </p:nvGrpSpPr>
        <p:grpSpPr>
          <a:xfrm>
            <a:off x="1828800" y="1219320"/>
            <a:ext cx="838080" cy="1157040"/>
            <a:chOff x="1828800" y="1219320"/>
            <a:chExt cx="838080" cy="1157040"/>
          </a:xfrm>
        </p:grpSpPr>
        <p:sp>
          <p:nvSpPr>
            <p:cNvPr id="581" name="Line 11"/>
            <p:cNvSpPr/>
            <p:nvPr/>
          </p:nvSpPr>
          <p:spPr>
            <a:xfrm>
              <a:off x="1828800" y="1219320"/>
              <a:ext cx="0" cy="11570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82" name="Line 12"/>
            <p:cNvSpPr/>
            <p:nvPr/>
          </p:nvSpPr>
          <p:spPr>
            <a:xfrm>
              <a:off x="2666880" y="1219320"/>
              <a:ext cx="0" cy="11570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83" name="Rectangle 15"/>
          <p:cNvSpPr/>
          <p:nvPr/>
        </p:nvSpPr>
        <p:spPr>
          <a:xfrm>
            <a:off x="4100040" y="1835280"/>
            <a:ext cx="37285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all Temperatur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4" name="Rectangle 16"/>
          <p:cNvSpPr/>
          <p:nvPr/>
        </p:nvSpPr>
        <p:spPr>
          <a:xfrm>
            <a:off x="2651040" y="1225440"/>
            <a:ext cx="7048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Line 17"/>
          <p:cNvSpPr/>
          <p:nvPr/>
        </p:nvSpPr>
        <p:spPr>
          <a:xfrm>
            <a:off x="609480" y="236232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Rectangle 18"/>
          <p:cNvSpPr/>
          <p:nvPr/>
        </p:nvSpPr>
        <p:spPr>
          <a:xfrm>
            <a:off x="1279080" y="2689200"/>
            <a:ext cx="4960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87" name="Group 48"/>
          <p:cNvGrpSpPr/>
          <p:nvPr/>
        </p:nvGrpSpPr>
        <p:grpSpPr>
          <a:xfrm>
            <a:off x="2041560" y="2689200"/>
            <a:ext cx="1273320" cy="695520"/>
            <a:chOff x="2041560" y="2689200"/>
            <a:chExt cx="1273320" cy="695520"/>
          </a:xfrm>
        </p:grpSpPr>
        <p:sp>
          <p:nvSpPr>
            <p:cNvPr id="588" name="Rectangle 19"/>
            <p:cNvSpPr/>
            <p:nvPr/>
          </p:nvSpPr>
          <p:spPr>
            <a:xfrm>
              <a:off x="2041560" y="2689200"/>
              <a:ext cx="5112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89" name="Rectangle 20"/>
            <p:cNvSpPr/>
            <p:nvPr/>
          </p:nvSpPr>
          <p:spPr>
            <a:xfrm>
              <a:off x="2803680" y="2689200"/>
              <a:ext cx="5112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90" name="Group 24"/>
          <p:cNvGrpSpPr/>
          <p:nvPr/>
        </p:nvGrpSpPr>
        <p:grpSpPr>
          <a:xfrm>
            <a:off x="1827360" y="2274840"/>
            <a:ext cx="838080" cy="1376280"/>
            <a:chOff x="1827360" y="2274840"/>
            <a:chExt cx="838080" cy="1376280"/>
          </a:xfrm>
        </p:grpSpPr>
        <p:sp>
          <p:nvSpPr>
            <p:cNvPr id="591" name="Line 22"/>
            <p:cNvSpPr/>
            <p:nvPr/>
          </p:nvSpPr>
          <p:spPr>
            <a:xfrm>
              <a:off x="1827360" y="2274840"/>
              <a:ext cx="0" cy="13762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92" name="Line 23"/>
            <p:cNvSpPr/>
            <p:nvPr/>
          </p:nvSpPr>
          <p:spPr>
            <a:xfrm>
              <a:off x="2665440" y="2274840"/>
              <a:ext cx="0" cy="13762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93" name="Rectangle 26"/>
          <p:cNvSpPr/>
          <p:nvPr/>
        </p:nvSpPr>
        <p:spPr>
          <a:xfrm>
            <a:off x="3948120" y="2521080"/>
            <a:ext cx="417960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igh temperatures,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opy driven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4" name="Line 27"/>
          <p:cNvSpPr/>
          <p:nvPr/>
        </p:nvSpPr>
        <p:spPr>
          <a:xfrm>
            <a:off x="609480" y="365760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Rectangle 28"/>
          <p:cNvSpPr/>
          <p:nvPr/>
        </p:nvSpPr>
        <p:spPr>
          <a:xfrm>
            <a:off x="1279080" y="3984480"/>
            <a:ext cx="4960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96" name="Group 49"/>
          <p:cNvGrpSpPr/>
          <p:nvPr/>
        </p:nvGrpSpPr>
        <p:grpSpPr>
          <a:xfrm>
            <a:off x="2041200" y="3984480"/>
            <a:ext cx="1132920" cy="695520"/>
            <a:chOff x="2041200" y="3984480"/>
            <a:chExt cx="1132920" cy="695520"/>
          </a:xfrm>
        </p:grpSpPr>
        <p:sp>
          <p:nvSpPr>
            <p:cNvPr id="597" name="Rectangle 29"/>
            <p:cNvSpPr/>
            <p:nvPr/>
          </p:nvSpPr>
          <p:spPr>
            <a:xfrm>
              <a:off x="2041200" y="3984480"/>
              <a:ext cx="3708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98" name="Rectangle 30"/>
            <p:cNvSpPr/>
            <p:nvPr/>
          </p:nvSpPr>
          <p:spPr>
            <a:xfrm>
              <a:off x="2803320" y="3984480"/>
              <a:ext cx="3708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99" name="Group 34"/>
          <p:cNvGrpSpPr/>
          <p:nvPr/>
        </p:nvGrpSpPr>
        <p:grpSpPr>
          <a:xfrm>
            <a:off x="1828800" y="3581280"/>
            <a:ext cx="838080" cy="1428840"/>
            <a:chOff x="1828800" y="3581280"/>
            <a:chExt cx="838080" cy="1428840"/>
          </a:xfrm>
        </p:grpSpPr>
        <p:sp>
          <p:nvSpPr>
            <p:cNvPr id="600" name="Line 32"/>
            <p:cNvSpPr/>
            <p:nvPr/>
          </p:nvSpPr>
          <p:spPr>
            <a:xfrm>
              <a:off x="1828800" y="3581280"/>
              <a:ext cx="0" cy="1428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1" name="Line 33"/>
            <p:cNvSpPr/>
            <p:nvPr/>
          </p:nvSpPr>
          <p:spPr>
            <a:xfrm>
              <a:off x="2666880" y="3581280"/>
              <a:ext cx="0" cy="1428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602" name="Rectangle 36"/>
          <p:cNvSpPr/>
          <p:nvPr/>
        </p:nvSpPr>
        <p:spPr>
          <a:xfrm>
            <a:off x="3871080" y="3816360"/>
            <a:ext cx="402264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ow temperatures,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halpy driven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3" name="Line 37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1279440" y="52038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05" name="Group 50"/>
          <p:cNvGrpSpPr/>
          <p:nvPr/>
        </p:nvGrpSpPr>
        <p:grpSpPr>
          <a:xfrm>
            <a:off x="2041560" y="5203800"/>
            <a:ext cx="1132560" cy="695520"/>
            <a:chOff x="2041560" y="5203800"/>
            <a:chExt cx="1132560" cy="695520"/>
          </a:xfrm>
        </p:grpSpPr>
        <p:sp>
          <p:nvSpPr>
            <p:cNvPr id="606" name="Rectangle 38"/>
            <p:cNvSpPr/>
            <p:nvPr/>
          </p:nvSpPr>
          <p:spPr>
            <a:xfrm>
              <a:off x="2041560" y="5203800"/>
              <a:ext cx="5112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7" name="Rectangle 40"/>
            <p:cNvSpPr/>
            <p:nvPr/>
          </p:nvSpPr>
          <p:spPr>
            <a:xfrm>
              <a:off x="2803320" y="5203800"/>
              <a:ext cx="3708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608" name="Group 44"/>
          <p:cNvGrpSpPr/>
          <p:nvPr/>
        </p:nvGrpSpPr>
        <p:grpSpPr>
          <a:xfrm>
            <a:off x="1828800" y="5022720"/>
            <a:ext cx="838080" cy="1157400"/>
            <a:chOff x="1828800" y="5022720"/>
            <a:chExt cx="838080" cy="1157400"/>
          </a:xfrm>
        </p:grpSpPr>
        <p:sp>
          <p:nvSpPr>
            <p:cNvPr id="609" name="Line 42"/>
            <p:cNvSpPr/>
            <p:nvPr/>
          </p:nvSpPr>
          <p:spPr>
            <a:xfrm>
              <a:off x="1828800" y="5022720"/>
              <a:ext cx="0" cy="115740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0" name="Line 43"/>
            <p:cNvSpPr/>
            <p:nvPr/>
          </p:nvSpPr>
          <p:spPr>
            <a:xfrm>
              <a:off x="2666880" y="5022720"/>
              <a:ext cx="0" cy="115740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611" name="Rectangle 46"/>
          <p:cNvSpPr/>
          <p:nvPr/>
        </p:nvSpPr>
        <p:spPr>
          <a:xfrm>
            <a:off x="3870360" y="5035680"/>
            <a:ext cx="4545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t any temperature,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e is spontaneou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oblem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information on page 407 and pg 190 determine if the following changes are spontaneous at 25º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l) + S(rhomb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73040" y="681120"/>
            <a:ext cx="809784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S(g) + O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(g) </a:t>
            </a:r>
            <a:r>
              <a:rPr b="0" lang="en-US" sz="4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 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O(l) + 2S</a:t>
            </a:r>
            <a:endParaRPr b="0" lang="en-US" sz="4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74760" y="1599840"/>
            <a:ext cx="8477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Pg. 190 we fi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° for each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= -20.1 k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0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= -285.8 k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= 0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Products - Re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=2 (-285.8 kJ) + 2(0 kJ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2 (-20.1 kJ) - 1(0 kJ) = -531.4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73040" y="681120"/>
            <a:ext cx="809784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S(g) + O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(g) </a:t>
            </a:r>
            <a:r>
              <a:rPr b="0" lang="en-US" sz="4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 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O(l) + 2 S</a:t>
            </a:r>
            <a:endParaRPr b="0" lang="en-US" sz="4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74760" y="1599840"/>
            <a:ext cx="8477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Pg. 407 we find S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each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= 205.6 J/K         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205.0 J/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= 69.94 J/K          S = 31.9 J/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Products - Re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 2 (69.94 J/K) + 2(31.9 J/K)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- 2(205.6 J/K) - 205 J/K = -412.5 J/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26680" y="681120"/>
            <a:ext cx="807876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S(g) + O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(g) </a:t>
            </a:r>
            <a:r>
              <a:rPr b="0" lang="en-US" sz="4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 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O(l) + 2 S</a:t>
            </a:r>
            <a:endParaRPr b="0" lang="en-US" sz="4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- 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-531.4 kJ - 298K (-412.5 J/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-531.4 kJ - -123000 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-531.4 kJ - -123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-408.4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gonic- it releases free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what temperature does it become spontane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576360" y="2446200"/>
            <a:ext cx="7972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-531.4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k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-123000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ontaneou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becomes spontaneous whe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’s where it changes from positive to neg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0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- 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nd solving for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 -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= - 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-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6845040" y="513252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290 K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2484720" y="4956120"/>
            <a:ext cx="203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-531.4 kJ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412.5 J/K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4340520" y="4973760"/>
            <a:ext cx="237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-531400 J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412.5 J/K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47880" y="580680"/>
            <a:ext cx="716256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re’s Another Wa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50440" y="1204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ables of standard free energies of formation compounds.(pg 4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free energy change in making a compound from its elements at 25º C and 1 at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n elemen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them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roducts) -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eact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8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20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tivation Energ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be supplied to start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activ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collision are hard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Activ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collisions hard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73040" y="681120"/>
            <a:ext cx="809784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S(g) + O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(g) </a:t>
            </a:r>
            <a:r>
              <a:rPr b="0" lang="en-US" sz="4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 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O(l) + 2S</a:t>
            </a:r>
            <a:endParaRPr b="0" lang="en-US" sz="4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74760" y="1599840"/>
            <a:ext cx="8477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Pg. 414 we fi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° for each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= -33.02 k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0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= -237.2 k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= 0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Products - Re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2 (-237.2) + 2(0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- 2 (-33.02) - 1(0) = -408.4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oes ice melt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following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s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° =6.03 kJ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° =22.1 J/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 what temperature does ice mel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 Mechanis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mentary rea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reaction that happens in a single st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eaction mechan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description of how the reaction really happ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series of elementary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of an elementary reaction is an intermedi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termedi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product that immediately gets used in the next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2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5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533160" y="4554000"/>
            <a:ext cx="8001000" cy="17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8203"/>
              </a:buClr>
              <a:buSzPct val="75000"/>
              <a:buFont typeface="Animal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This reaction takes place in three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48" dur="2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528480" y="58572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2716200" y="2311560"/>
            <a:ext cx="789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4400"/>
              </a:buClr>
              <a:buSzPct val="25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0" name="Line 5"/>
          <p:cNvSpPr/>
          <p:nvPr/>
        </p:nvSpPr>
        <p:spPr>
          <a:xfrm>
            <a:off x="3060720" y="2722680"/>
            <a:ext cx="0" cy="1182600"/>
          </a:xfrm>
          <a:prstGeom prst="line">
            <a:avLst/>
          </a:prstGeom>
          <a:ln w="25560">
            <a:solidFill>
              <a:srgbClr val="e84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3076560" y="2984400"/>
            <a:ext cx="853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143460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ep is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activ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143496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Second step is slow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High activation energy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>
            <a:off x="5622840" y="1063800"/>
            <a:ext cx="0" cy="2574720"/>
          </a:xfrm>
          <a:prstGeom prst="line">
            <a:avLst/>
          </a:prstGeom>
          <a:ln w="25560">
            <a:solidFill>
              <a:srgbClr val="e844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5589720" y="2147760"/>
            <a:ext cx="853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5237280" y="633240"/>
            <a:ext cx="78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4400"/>
              </a:buClr>
              <a:buSzPct val="25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442800" y="431640"/>
            <a:ext cx="8305920" cy="594072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Line 4"/>
          <p:cNvSpPr/>
          <p:nvPr/>
        </p:nvSpPr>
        <p:spPr>
          <a:xfrm>
            <a:off x="7693200" y="2739960"/>
            <a:ext cx="0" cy="507960"/>
          </a:xfrm>
          <a:prstGeom prst="line">
            <a:avLst/>
          </a:prstGeom>
          <a:ln w="25560">
            <a:solidFill>
              <a:srgbClr val="e84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7658280" y="2689200"/>
            <a:ext cx="853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143496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Third step is fast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Low activation energy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7270920" y="2405160"/>
            <a:ext cx="78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4400"/>
              </a:buClr>
              <a:buSzPct val="335000"/>
              <a:buFont typeface="Webding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542880" y="60012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6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1434960" y="4086360"/>
            <a:ext cx="7456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In this case the second step is rate determining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It is slowest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Highest activation energy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9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3086280" y="5315040"/>
            <a:ext cx="529416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Intermediates are present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1" name="Line 5"/>
          <p:cNvSpPr/>
          <p:nvPr/>
        </p:nvSpPr>
        <p:spPr>
          <a:xfrm>
            <a:off x="4325760" y="3675240"/>
            <a:ext cx="820800" cy="157608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Line 6"/>
          <p:cNvSpPr/>
          <p:nvPr/>
        </p:nvSpPr>
        <p:spPr>
          <a:xfrm flipH="1">
            <a:off x="5180040" y="3247920"/>
            <a:ext cx="1690560" cy="198756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3411360" y="4202280"/>
            <a:ext cx="50961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Activated Complexes or Transition States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Line 5"/>
          <p:cNvSpPr/>
          <p:nvPr/>
        </p:nvSpPr>
        <p:spPr>
          <a:xfrm>
            <a:off x="3060720" y="2755800"/>
            <a:ext cx="920880" cy="146052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Line 6"/>
          <p:cNvSpPr/>
          <p:nvPr/>
        </p:nvSpPr>
        <p:spPr>
          <a:xfrm>
            <a:off x="5607000" y="1065240"/>
            <a:ext cx="14400" cy="308772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8" name="Line 7"/>
          <p:cNvSpPr/>
          <p:nvPr/>
        </p:nvSpPr>
        <p:spPr>
          <a:xfrm flipH="1">
            <a:off x="7248240" y="2755800"/>
            <a:ext cx="493560" cy="147816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tivation energ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reaction is endothermic you must keep supplying 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is exothermic it releas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energy can be used to supply the activation energy to those that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echanisms and rate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mediates are stable -they last for a littl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ed complexes do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n activation energy for each elementary st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est step (rate determining) must have the highest activation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533160" y="579600"/>
            <a:ext cx="8055000" cy="57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chanism for the decomposition of hydrogen peroxide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s the rate determining st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intermediat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tch the potential energy diagr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5699160" y="0"/>
            <a:ext cx="152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731880" y="1461960"/>
            <a:ext cx="7651800" cy="2063520"/>
            <a:chOff x="731880" y="1461960"/>
            <a:chExt cx="7651800" cy="2063520"/>
          </a:xfrm>
        </p:grpSpPr>
        <p:grpSp>
          <p:nvGrpSpPr>
            <p:cNvPr id="674" name="Group 5"/>
            <p:cNvGrpSpPr/>
            <p:nvPr/>
          </p:nvGrpSpPr>
          <p:grpSpPr>
            <a:xfrm>
              <a:off x="731880" y="1479600"/>
              <a:ext cx="5472000" cy="2045880"/>
              <a:chOff x="731880" y="1479600"/>
              <a:chExt cx="5472000" cy="2045880"/>
            </a:xfrm>
          </p:grpSpPr>
          <p:graphicFrame>
            <p:nvGraphicFramePr>
              <p:cNvPr id="675" name="Object 6"/>
              <p:cNvGraphicFramePr/>
              <p:nvPr/>
            </p:nvGraphicFramePr>
            <p:xfrm>
              <a:off x="1947600" y="1479600"/>
              <a:ext cx="3039840" cy="689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47600" y="1479600"/>
                        <a:ext cx="3039840" cy="68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77" name="Object 7"/>
              <p:cNvGraphicFramePr/>
              <p:nvPr/>
            </p:nvGraphicFramePr>
            <p:xfrm>
              <a:off x="731880" y="2159640"/>
              <a:ext cx="5472000" cy="686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8" name="Object 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31880" y="2159640"/>
                        <a:ext cx="5472000" cy="68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79" name="Object 8"/>
              <p:cNvGraphicFramePr/>
              <p:nvPr/>
            </p:nvGraphicFramePr>
            <p:xfrm>
              <a:off x="995040" y="2836800"/>
              <a:ext cx="4945320" cy="688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80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95040" y="2836800"/>
                        <a:ext cx="4945320" cy="68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81" name="Group 9"/>
            <p:cNvGrpSpPr/>
            <p:nvPr/>
          </p:nvGrpSpPr>
          <p:grpSpPr>
            <a:xfrm>
              <a:off x="6721560" y="1461960"/>
              <a:ext cx="1662120" cy="2026080"/>
              <a:chOff x="6721560" y="1461960"/>
              <a:chExt cx="1662120" cy="2026080"/>
            </a:xfrm>
          </p:grpSpPr>
          <p:sp>
            <p:nvSpPr>
              <p:cNvPr id="682" name="Text Box 10"/>
              <p:cNvSpPr/>
              <p:nvPr/>
            </p:nvSpPr>
            <p:spPr>
              <a:xfrm>
                <a:off x="6721560" y="1461960"/>
                <a:ext cx="16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Slow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683" name="Text Box 11"/>
              <p:cNvSpPr/>
              <p:nvPr/>
            </p:nvSpPr>
            <p:spPr>
              <a:xfrm>
                <a:off x="6721560" y="2208240"/>
                <a:ext cx="16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Fast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684" name="Text Box 12"/>
              <p:cNvSpPr/>
              <p:nvPr/>
            </p:nvSpPr>
            <p:spPr>
              <a:xfrm>
                <a:off x="6721560" y="2906640"/>
                <a:ext cx="16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Fast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03400" y="509760"/>
            <a:ext cx="7607160" cy="5397480"/>
          </a:xfrm>
          <a:prstGeom prst="rect">
            <a:avLst/>
          </a:prstGeom>
          <a:solidFill>
            <a:srgbClr val="b3b9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 rot="16200000">
            <a:off x="75600" y="388620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V="1">
            <a:off x="838080" y="182844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886120" y="5853240"/>
            <a:ext cx="449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coordina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Freeform 6"/>
          <p:cNvSpPr/>
          <p:nvPr/>
        </p:nvSpPr>
        <p:spPr>
          <a:xfrm>
            <a:off x="1373040" y="1692360"/>
            <a:ext cx="7164360" cy="3519360"/>
          </a:xfrm>
          <a:prstGeom prst="pie">
            <a:avLst/>
          </a:prstGeom>
          <a:noFill/>
          <a:ln cap="rnd"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144440" y="3859200"/>
            <a:ext cx="231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6962760" y="5208480"/>
            <a:ext cx="216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5154480" y="3828960"/>
            <a:ext cx="69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5154480" y="5302080"/>
            <a:ext cx="69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 flipV="1">
            <a:off x="5500800" y="3843000"/>
            <a:ext cx="0" cy="146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2387520" y="4087800"/>
            <a:ext cx="2982960" cy="1067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Overall energy chang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0" name="Group 23"/>
          <p:cNvGrpSpPr/>
          <p:nvPr/>
        </p:nvGrpSpPr>
        <p:grpSpPr>
          <a:xfrm>
            <a:off x="7232760" y="4451400"/>
            <a:ext cx="1298520" cy="907920"/>
            <a:chOff x="7232760" y="4451400"/>
            <a:chExt cx="1298520" cy="907920"/>
          </a:xfrm>
        </p:grpSpPr>
        <p:grpSp>
          <p:nvGrpSpPr>
            <p:cNvPr id="191" name="Group 17"/>
            <p:cNvGrpSpPr/>
            <p:nvPr/>
          </p:nvGrpSpPr>
          <p:grpSpPr>
            <a:xfrm>
              <a:off x="8067600" y="4451400"/>
              <a:ext cx="463680" cy="801720"/>
              <a:chOff x="8067600" y="4451400"/>
              <a:chExt cx="463680" cy="801720"/>
            </a:xfrm>
          </p:grpSpPr>
          <p:sp>
            <p:nvSpPr>
              <p:cNvPr id="192" name="Oval 13"/>
              <p:cNvSpPr/>
              <p:nvPr/>
            </p:nvSpPr>
            <p:spPr>
              <a:xfrm>
                <a:off x="8067600" y="461952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93" name="Group 16"/>
              <p:cNvGrpSpPr/>
              <p:nvPr/>
            </p:nvGrpSpPr>
            <p:grpSpPr>
              <a:xfrm>
                <a:off x="8278920" y="4451400"/>
                <a:ext cx="233280" cy="801720"/>
                <a:chOff x="8278920" y="4451400"/>
                <a:chExt cx="233280" cy="801720"/>
              </a:xfrm>
            </p:grpSpPr>
            <p:sp>
              <p:nvSpPr>
                <p:cNvPr id="194" name="Oval 14"/>
                <p:cNvSpPr/>
                <p:nvPr/>
              </p:nvSpPr>
              <p:spPr>
                <a:xfrm>
                  <a:off x="8278920" y="5019840"/>
                  <a:ext cx="233280" cy="2332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15"/>
                <p:cNvSpPr/>
                <p:nvPr/>
              </p:nvSpPr>
              <p:spPr>
                <a:xfrm>
                  <a:off x="8278920" y="4451400"/>
                  <a:ext cx="233280" cy="2332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Group 22"/>
            <p:cNvGrpSpPr/>
            <p:nvPr/>
          </p:nvGrpSpPr>
          <p:grpSpPr>
            <a:xfrm>
              <a:off x="7232760" y="4557600"/>
              <a:ext cx="463320" cy="801720"/>
              <a:chOff x="7232760" y="4557600"/>
              <a:chExt cx="463320" cy="801720"/>
            </a:xfrm>
          </p:grpSpPr>
          <p:sp>
            <p:nvSpPr>
              <p:cNvPr id="197" name="Oval 18"/>
              <p:cNvSpPr/>
              <p:nvPr/>
            </p:nvSpPr>
            <p:spPr>
              <a:xfrm>
                <a:off x="7232760" y="4726080"/>
                <a:ext cx="46332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98" name="Group 21"/>
              <p:cNvGrpSpPr/>
              <p:nvPr/>
            </p:nvGrpSpPr>
            <p:grpSpPr>
              <a:xfrm>
                <a:off x="7443720" y="4557600"/>
                <a:ext cx="233280" cy="801720"/>
                <a:chOff x="7443720" y="4557600"/>
                <a:chExt cx="233280" cy="801720"/>
              </a:xfrm>
            </p:grpSpPr>
            <p:sp>
              <p:nvSpPr>
                <p:cNvPr id="199" name="Oval 19"/>
                <p:cNvSpPr/>
                <p:nvPr/>
              </p:nvSpPr>
              <p:spPr>
                <a:xfrm>
                  <a:off x="7443720" y="5126040"/>
                  <a:ext cx="233280" cy="2332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20"/>
                <p:cNvSpPr/>
                <p:nvPr/>
              </p:nvSpPr>
              <p:spPr>
                <a:xfrm>
                  <a:off x="7443720" y="455760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1" name="Group 33"/>
          <p:cNvGrpSpPr/>
          <p:nvPr/>
        </p:nvGrpSpPr>
        <p:grpSpPr>
          <a:xfrm>
            <a:off x="1349280" y="2846520"/>
            <a:ext cx="1332000" cy="760320"/>
            <a:chOff x="1349280" y="2846520"/>
            <a:chExt cx="1332000" cy="760320"/>
          </a:xfrm>
        </p:grpSpPr>
        <p:grpSp>
          <p:nvGrpSpPr>
            <p:cNvPr id="202" name="Group 26"/>
            <p:cNvGrpSpPr/>
            <p:nvPr/>
          </p:nvGrpSpPr>
          <p:grpSpPr>
            <a:xfrm>
              <a:off x="1749600" y="2846520"/>
              <a:ext cx="465120" cy="760320"/>
              <a:chOff x="1749600" y="2846520"/>
              <a:chExt cx="465120" cy="760320"/>
            </a:xfrm>
          </p:grpSpPr>
          <p:sp>
            <p:nvSpPr>
              <p:cNvPr id="203" name="Oval 24"/>
              <p:cNvSpPr/>
              <p:nvPr/>
            </p:nvSpPr>
            <p:spPr>
              <a:xfrm>
                <a:off x="1751040" y="2846520"/>
                <a:ext cx="463680" cy="43956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04" name="Oval 25"/>
              <p:cNvSpPr/>
              <p:nvPr/>
            </p:nvSpPr>
            <p:spPr>
              <a:xfrm>
                <a:off x="1749600" y="3166920"/>
                <a:ext cx="463320" cy="4399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9"/>
            <p:cNvGrpSpPr/>
            <p:nvPr/>
          </p:nvGrpSpPr>
          <p:grpSpPr>
            <a:xfrm>
              <a:off x="2446200" y="3022560"/>
              <a:ext cx="235080" cy="425520"/>
              <a:chOff x="2446200" y="3022560"/>
              <a:chExt cx="235080" cy="425520"/>
            </a:xfrm>
          </p:grpSpPr>
          <p:sp>
            <p:nvSpPr>
              <p:cNvPr id="206" name="Oval 27"/>
              <p:cNvSpPr/>
              <p:nvPr/>
            </p:nvSpPr>
            <p:spPr>
              <a:xfrm>
                <a:off x="2448000" y="3022560"/>
                <a:ext cx="233280" cy="22212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07" name="Oval 28"/>
              <p:cNvSpPr/>
              <p:nvPr/>
            </p:nvSpPr>
            <p:spPr>
              <a:xfrm>
                <a:off x="2446200" y="3227400"/>
                <a:ext cx="233640" cy="220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32"/>
            <p:cNvGrpSpPr/>
            <p:nvPr/>
          </p:nvGrpSpPr>
          <p:grpSpPr>
            <a:xfrm>
              <a:off x="1349280" y="3040200"/>
              <a:ext cx="235080" cy="425160"/>
              <a:chOff x="1349280" y="3040200"/>
              <a:chExt cx="235080" cy="425160"/>
            </a:xfrm>
          </p:grpSpPr>
          <p:sp>
            <p:nvSpPr>
              <p:cNvPr id="209" name="Oval 30"/>
              <p:cNvSpPr/>
              <p:nvPr/>
            </p:nvSpPr>
            <p:spPr>
              <a:xfrm>
                <a:off x="1351080" y="3040200"/>
                <a:ext cx="233280" cy="220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10" name="Oval 31"/>
              <p:cNvSpPr/>
              <p:nvPr/>
            </p:nvSpPr>
            <p:spPr>
              <a:xfrm>
                <a:off x="1349280" y="3243240"/>
                <a:ext cx="233280" cy="22212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ings that Affect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r temperature faster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and harder coll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er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ntrated molecules closer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ide more of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er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08T20:03:10Z</dcterms:created>
  <dc:creator>Jill Luckey</dc:creator>
  <dc:description/>
  <dc:language>en-US</dc:language>
  <cp:lastModifiedBy>jluckey</cp:lastModifiedBy>
  <dcterms:modified xsi:type="dcterms:W3CDTF">2011-02-05T14:28:24Z</dcterms:modified>
  <cp:revision>44</cp:revision>
  <dc:subject/>
  <dc:title>Reaction Rate</dc:title>
</cp:coreProperties>
</file>